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37F8-78F6-48F1-BD4A-3835F0E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F73B-3E6A-474C-8C17-33DC8B1B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D4BA-E483-497A-B4BC-81C9C27A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7184-5F30-4136-82BF-B01419AE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A461-06D1-458B-AD99-A95CA0F3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1532-F096-459B-96F8-6F4F53A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527C-3DA3-496E-AB87-0E2C463E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1ACD-6518-48DC-AD90-8567AB77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13BA-B17A-4280-AA95-43717000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BF3C-5EC3-4076-A720-D5F1A36C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262B-6BCF-4580-AFFE-B38CBB3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4722-2C5E-455F-8707-75AED97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D703-B9B5-4F5D-8348-1A2C2FC0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99BE-C8CA-486B-AAA6-21F6E7CF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D5E7-CA95-483C-A6A0-67626C2D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9B71-2F6F-4CC3-B1E8-5B6887AA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7F9-C593-4655-8ACB-84B106BA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1FE0-43EA-47FE-AC69-880E624B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D876-124A-47CD-8C08-02A44A5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934C-3BF3-4BB8-97D5-FF25917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1A7F-1286-4729-B293-3F8A5756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5C56-CB1C-46DE-ACE8-7437AF3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70E9-17E9-4E92-998F-25FDD0A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B502-C4AA-4504-A0E0-FFFB94A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71DD-209D-4228-8E57-7B56FA66F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DFD-82E9-47D6-893E-71CFD9FF4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emical Bonding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5C40-BF7A-4EB6-B794-7691EFD177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tent Placeholder 2"/>
          <p:cNvSpPr/>
          <p:nvPr/>
        </p:nvSpPr>
        <p:spPr>
          <a:xfrm>
            <a:off x="380880" y="4046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An atom in the ground state has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atomic number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Z=5. Choose the correct electron-dot structure which represents this ato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86900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8000" y="544356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6920" y="5156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56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2494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30686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2400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7813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8000" y="4221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6920" y="39322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62200" y="364644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595008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65246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595008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9440" y="623556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37130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9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  X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03640" y="2205000"/>
            <a:ext cx="5616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lectron configuration Z 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lence electrons are in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C2FE-FF36-484B-B3A3-E13A9D3245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8319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hemical bond in which two or more electrons are shared by two atoms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Non-metal-High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5480" y="213372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Comic Sans MS"/>
              </a:rPr>
              <a:t>Why should two atoms share elec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14680" y="2725560"/>
            <a:ext cx="444600" cy="480240"/>
            <a:chOff x="2614680" y="2725560"/>
            <a:chExt cx="444600" cy="480240"/>
          </a:xfrm>
        </p:grpSpPr>
        <p:sp>
          <p:nvSpPr>
            <p:cNvPr id="282" name=""/>
            <p:cNvSpPr/>
            <p:nvPr/>
          </p:nvSpPr>
          <p:spPr>
            <a:xfrm>
              <a:off x="2674440" y="27460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14680" y="2852280"/>
              <a:ext cx="76320" cy="228600"/>
              <a:chOff x="2614680" y="2852280"/>
              <a:chExt cx="76320" cy="228600"/>
            </a:xfrm>
          </p:grpSpPr>
          <p:sp>
            <p:nvSpPr>
              <p:cNvPr id="284" name=""/>
              <p:cNvSpPr/>
              <p:nvPr/>
            </p:nvSpPr>
            <p:spPr>
              <a:xfrm>
                <a:off x="261468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4680" y="3004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2982960" y="2852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715840" y="2725560"/>
              <a:ext cx="228600" cy="75960"/>
              <a:chOff x="2715840" y="2725560"/>
              <a:chExt cx="228600" cy="75960"/>
            </a:xfrm>
          </p:grpSpPr>
          <p:sp>
            <p:nvSpPr>
              <p:cNvPr id="288" name=""/>
              <p:cNvSpPr/>
              <p:nvPr/>
            </p:nvSpPr>
            <p:spPr>
              <a:xfrm rot="5400000">
                <a:off x="2868120" y="2725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2715840" y="2725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2715840" y="3119040"/>
              <a:ext cx="228600" cy="76320"/>
              <a:chOff x="2715840" y="3119040"/>
              <a:chExt cx="228600" cy="7632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868120" y="311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2715480" y="31190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307320" y="2725560"/>
            <a:ext cx="1036080" cy="480240"/>
            <a:chOff x="3307320" y="2725560"/>
            <a:chExt cx="1036080" cy="480240"/>
          </a:xfrm>
        </p:grpSpPr>
        <p:grpSp>
          <p:nvGrpSpPr>
            <p:cNvPr id="294" name=""/>
            <p:cNvGrpSpPr/>
            <p:nvPr/>
          </p:nvGrpSpPr>
          <p:grpSpPr>
            <a:xfrm>
              <a:off x="3911760" y="2725560"/>
              <a:ext cx="431640" cy="480240"/>
              <a:chOff x="3911760" y="2725560"/>
              <a:chExt cx="431640" cy="480240"/>
            </a:xfrm>
          </p:grpSpPr>
          <p:sp>
            <p:nvSpPr>
              <p:cNvPr id="295" name=""/>
              <p:cNvSpPr/>
              <p:nvPr/>
            </p:nvSpPr>
            <p:spPr>
              <a:xfrm>
                <a:off x="395892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4267440" y="2852640"/>
                <a:ext cx="75960" cy="228600"/>
                <a:chOff x="4267440" y="2852640"/>
                <a:chExt cx="75960" cy="228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26744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26744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91176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00320" y="2725560"/>
                <a:ext cx="228600" cy="76320"/>
                <a:chOff x="4000320" y="2725560"/>
                <a:chExt cx="228600" cy="76320"/>
              </a:xfrm>
            </p:grpSpPr>
            <p:sp>
              <p:nvSpPr>
                <p:cNvPr id="301" name=""/>
                <p:cNvSpPr/>
                <p:nvPr/>
              </p:nvSpPr>
              <p:spPr>
                <a:xfrm rot="5400000">
                  <a:off x="415260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5400000">
                  <a:off x="399996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00320" y="3119400"/>
                <a:ext cx="228600" cy="75960"/>
                <a:chOff x="4000320" y="3119400"/>
                <a:chExt cx="228600" cy="75960"/>
              </a:xfrm>
            </p:grpSpPr>
            <p:sp>
              <p:nvSpPr>
                <p:cNvPr id="304" name=""/>
                <p:cNvSpPr/>
                <p:nvPr/>
              </p:nvSpPr>
              <p:spPr>
                <a:xfrm rot="5400000">
                  <a:off x="415260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5400000">
                  <a:off x="400032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3307320" y="27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02000" y="2637000"/>
            <a:ext cx="685800" cy="1164240"/>
            <a:chOff x="2502000" y="2637000"/>
            <a:chExt cx="685800" cy="1164240"/>
          </a:xfrm>
        </p:grpSpPr>
        <p:sp>
          <p:nvSpPr>
            <p:cNvPr id="308" name=""/>
            <p:cNvSpPr/>
            <p:nvPr/>
          </p:nvSpPr>
          <p:spPr>
            <a:xfrm>
              <a:off x="250200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384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84680" y="2637000"/>
            <a:ext cx="685800" cy="1164240"/>
            <a:chOff x="3784680" y="2637000"/>
            <a:chExt cx="685800" cy="1164240"/>
          </a:xfrm>
        </p:grpSpPr>
        <p:sp>
          <p:nvSpPr>
            <p:cNvPr id="311" name=""/>
            <p:cNvSpPr/>
            <p:nvPr/>
          </p:nvSpPr>
          <p:spPr>
            <a:xfrm>
              <a:off x="3784680" y="2637000"/>
              <a:ext cx="685800" cy="685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36520" y="33415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572000" y="29541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575320" y="2725560"/>
            <a:ext cx="799920" cy="480240"/>
            <a:chOff x="5575320" y="2725560"/>
            <a:chExt cx="799920" cy="480240"/>
          </a:xfrm>
        </p:grpSpPr>
        <p:grpSp>
          <p:nvGrpSpPr>
            <p:cNvPr id="315" name=""/>
            <p:cNvGrpSpPr/>
            <p:nvPr/>
          </p:nvGrpSpPr>
          <p:grpSpPr>
            <a:xfrm>
              <a:off x="5575320" y="2725560"/>
              <a:ext cx="444600" cy="480240"/>
              <a:chOff x="5575320" y="2725560"/>
              <a:chExt cx="444600" cy="480240"/>
            </a:xfrm>
          </p:grpSpPr>
          <p:sp>
            <p:nvSpPr>
              <p:cNvPr id="316" name=""/>
              <p:cNvSpPr/>
              <p:nvPr/>
            </p:nvSpPr>
            <p:spPr>
              <a:xfrm>
                <a:off x="563508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75320" y="2852280"/>
                <a:ext cx="76320" cy="228600"/>
                <a:chOff x="5575320" y="2852280"/>
                <a:chExt cx="76320" cy="2286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575320" y="2852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75320" y="3004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943600" y="2852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5676480" y="2725560"/>
                <a:ext cx="228600" cy="75960"/>
                <a:chOff x="5676480" y="2725560"/>
                <a:chExt cx="228600" cy="75960"/>
              </a:xfrm>
            </p:grpSpPr>
            <p:sp>
              <p:nvSpPr>
                <p:cNvPr id="322" name=""/>
                <p:cNvSpPr/>
                <p:nvPr/>
              </p:nvSpPr>
              <p:spPr>
                <a:xfrm rot="5400000">
                  <a:off x="5828760" y="2725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676480" y="2725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676480" y="3119040"/>
                <a:ext cx="228600" cy="76320"/>
                <a:chOff x="5676480" y="3119040"/>
                <a:chExt cx="228600" cy="76320"/>
              </a:xfrm>
            </p:grpSpPr>
            <p:sp>
              <p:nvSpPr>
                <p:cNvPr id="325" name=""/>
                <p:cNvSpPr/>
                <p:nvPr/>
              </p:nvSpPr>
              <p:spPr>
                <a:xfrm rot="5400000">
                  <a:off x="5828760" y="3119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5400000">
                  <a:off x="5676120" y="3119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5943600" y="2725560"/>
              <a:ext cx="431640" cy="480240"/>
              <a:chOff x="5943600" y="2725560"/>
              <a:chExt cx="431640" cy="480240"/>
            </a:xfrm>
          </p:grpSpPr>
          <p:sp>
            <p:nvSpPr>
              <p:cNvPr id="328" name=""/>
              <p:cNvSpPr/>
              <p:nvPr/>
            </p:nvSpPr>
            <p:spPr>
              <a:xfrm>
                <a:off x="5990760" y="2746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299280" y="2852640"/>
                <a:ext cx="75960" cy="228600"/>
                <a:chOff x="6299280" y="2852640"/>
                <a:chExt cx="75960" cy="228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99280" y="2852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99280" y="30052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943600" y="3004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032160" y="2725560"/>
                <a:ext cx="228600" cy="76320"/>
                <a:chOff x="6032160" y="2725560"/>
                <a:chExt cx="228600" cy="76320"/>
              </a:xfrm>
            </p:grpSpPr>
            <p:sp>
              <p:nvSpPr>
                <p:cNvPr id="334" name=""/>
                <p:cNvSpPr/>
                <p:nvPr/>
              </p:nvSpPr>
              <p:spPr>
                <a:xfrm rot="5400000">
                  <a:off x="6184440" y="2725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6031800" y="2725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032160" y="3119400"/>
                <a:ext cx="228600" cy="75960"/>
                <a:chOff x="6032160" y="3119400"/>
                <a:chExt cx="228600" cy="75960"/>
              </a:xfrm>
            </p:grpSpPr>
            <p:sp>
              <p:nvSpPr>
                <p:cNvPr id="337" name=""/>
                <p:cNvSpPr/>
                <p:nvPr/>
              </p:nvSpPr>
              <p:spPr>
                <a:xfrm rot="5400000">
                  <a:off x="6184440" y="3119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6032160" y="3119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"/>
          <p:cNvGrpSpPr/>
          <p:nvPr/>
        </p:nvGrpSpPr>
        <p:grpSpPr>
          <a:xfrm>
            <a:off x="5384880" y="2649600"/>
            <a:ext cx="685800" cy="1164600"/>
            <a:chOff x="5384880" y="2649600"/>
            <a:chExt cx="685800" cy="1164600"/>
          </a:xfrm>
        </p:grpSpPr>
        <p:sp>
          <p:nvSpPr>
            <p:cNvPr id="340" name=""/>
            <p:cNvSpPr/>
            <p:nvPr/>
          </p:nvSpPr>
          <p:spPr>
            <a:xfrm>
              <a:off x="538488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672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18040" y="2649600"/>
            <a:ext cx="685800" cy="1164600"/>
            <a:chOff x="5918040" y="2649600"/>
            <a:chExt cx="685800" cy="1164600"/>
          </a:xfrm>
        </p:grpSpPr>
        <p:sp>
          <p:nvSpPr>
            <p:cNvPr id="343" name=""/>
            <p:cNvSpPr/>
            <p:nvPr/>
          </p:nvSpPr>
          <p:spPr>
            <a:xfrm>
              <a:off x="5918040" y="264960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9880" y="335448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016000" y="5559480"/>
            <a:ext cx="799920" cy="482040"/>
            <a:chOff x="2016000" y="5559480"/>
            <a:chExt cx="799920" cy="482040"/>
          </a:xfrm>
        </p:grpSpPr>
        <p:grpSp>
          <p:nvGrpSpPr>
            <p:cNvPr id="346" name=""/>
            <p:cNvGrpSpPr/>
            <p:nvPr/>
          </p:nvGrpSpPr>
          <p:grpSpPr>
            <a:xfrm>
              <a:off x="2016000" y="5559480"/>
              <a:ext cx="444600" cy="480240"/>
              <a:chOff x="2016000" y="5559480"/>
              <a:chExt cx="444600" cy="480240"/>
            </a:xfrm>
          </p:grpSpPr>
          <p:sp>
            <p:nvSpPr>
              <p:cNvPr id="347" name=""/>
              <p:cNvSpPr/>
              <p:nvPr/>
            </p:nvSpPr>
            <p:spPr>
              <a:xfrm>
                <a:off x="2075760" y="55800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2016000" y="5686200"/>
                <a:ext cx="76320" cy="228600"/>
                <a:chOff x="2016000" y="5686200"/>
                <a:chExt cx="76320" cy="228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016000" y="56862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016000" y="58388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384280" y="568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117160" y="5559480"/>
                <a:ext cx="228600" cy="75960"/>
                <a:chOff x="2117160" y="5559480"/>
                <a:chExt cx="228600" cy="75960"/>
              </a:xfrm>
            </p:grpSpPr>
            <p:sp>
              <p:nvSpPr>
                <p:cNvPr id="353" name=""/>
                <p:cNvSpPr/>
                <p:nvPr/>
              </p:nvSpPr>
              <p:spPr>
                <a:xfrm rot="5400000">
                  <a:off x="2269440" y="5559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400000">
                  <a:off x="2117160" y="55594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117160" y="5952960"/>
                <a:ext cx="228600" cy="76320"/>
                <a:chOff x="2117160" y="5952960"/>
                <a:chExt cx="228600" cy="76320"/>
              </a:xfrm>
            </p:grpSpPr>
            <p:sp>
              <p:nvSpPr>
                <p:cNvPr id="356" name=""/>
                <p:cNvSpPr/>
                <p:nvPr/>
              </p:nvSpPr>
              <p:spPr>
                <a:xfrm rot="5400000">
                  <a:off x="2269440" y="5952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5400000">
                  <a:off x="2116800" y="5952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384280" y="5561280"/>
              <a:ext cx="431640" cy="480240"/>
              <a:chOff x="2384280" y="5561280"/>
              <a:chExt cx="431640" cy="48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431440" y="558180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2739960" y="5688360"/>
                <a:ext cx="75960" cy="228600"/>
                <a:chOff x="2739960" y="5688360"/>
                <a:chExt cx="75960" cy="228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739960" y="56883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39960" y="584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2384280" y="5840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472840" y="5561280"/>
                <a:ext cx="228600" cy="76320"/>
                <a:chOff x="2472840" y="5561280"/>
                <a:chExt cx="228600" cy="76320"/>
              </a:xfrm>
            </p:grpSpPr>
            <p:sp>
              <p:nvSpPr>
                <p:cNvPr id="365" name=""/>
                <p:cNvSpPr/>
                <p:nvPr/>
              </p:nvSpPr>
              <p:spPr>
                <a:xfrm rot="5400000">
                  <a:off x="2625120" y="5561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5400000">
                  <a:off x="2472480" y="5561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472840" y="5955120"/>
                <a:ext cx="228600" cy="75960"/>
                <a:chOff x="2472840" y="5955120"/>
                <a:chExt cx="228600" cy="75960"/>
              </a:xfrm>
            </p:grpSpPr>
            <p:sp>
              <p:nvSpPr>
                <p:cNvPr id="368" name=""/>
                <p:cNvSpPr/>
                <p:nvPr/>
              </p:nvSpPr>
              <p:spPr>
                <a:xfrm rot="5400000">
                  <a:off x="2625120" y="59547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5400000">
                  <a:off x="2472840" y="59551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5924520" y="4518000"/>
            <a:ext cx="1237680" cy="482040"/>
            <a:chOff x="5924520" y="4518000"/>
            <a:chExt cx="1237680" cy="482040"/>
          </a:xfrm>
        </p:grpSpPr>
        <p:grpSp>
          <p:nvGrpSpPr>
            <p:cNvPr id="371" name=""/>
            <p:cNvGrpSpPr/>
            <p:nvPr/>
          </p:nvGrpSpPr>
          <p:grpSpPr>
            <a:xfrm>
              <a:off x="5924520" y="4518000"/>
              <a:ext cx="398880" cy="480240"/>
              <a:chOff x="5924520" y="4518000"/>
              <a:chExt cx="398880" cy="480240"/>
            </a:xfrm>
          </p:grpSpPr>
          <p:sp>
            <p:nvSpPr>
              <p:cNvPr id="372" name=""/>
              <p:cNvSpPr/>
              <p:nvPr/>
            </p:nvSpPr>
            <p:spPr>
              <a:xfrm>
                <a:off x="5984280" y="45385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924520" y="4645080"/>
                <a:ext cx="75960" cy="228600"/>
                <a:chOff x="5924520" y="4645080"/>
                <a:chExt cx="75960" cy="228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924520" y="4645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924520" y="47977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025680" y="4518000"/>
                <a:ext cx="228600" cy="76320"/>
                <a:chOff x="6025680" y="4518000"/>
                <a:chExt cx="228600" cy="76320"/>
              </a:xfrm>
            </p:grpSpPr>
            <p:sp>
              <p:nvSpPr>
                <p:cNvPr id="377" name=""/>
                <p:cNvSpPr/>
                <p:nvPr/>
              </p:nvSpPr>
              <p:spPr>
                <a:xfrm rot="5400000">
                  <a:off x="6177960" y="4518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5400000">
                  <a:off x="6025320" y="4518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25680" y="4911840"/>
                <a:ext cx="228600" cy="75960"/>
                <a:chOff x="6025680" y="4911840"/>
                <a:chExt cx="228600" cy="75960"/>
              </a:xfrm>
            </p:grpSpPr>
            <p:sp>
              <p:nvSpPr>
                <p:cNvPr id="380" name=""/>
                <p:cNvSpPr/>
                <p:nvPr/>
              </p:nvSpPr>
              <p:spPr>
                <a:xfrm rot="5400000">
                  <a:off x="6177960" y="4911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00000">
                  <a:off x="6025680" y="4911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6777720" y="4519440"/>
              <a:ext cx="384480" cy="480600"/>
              <a:chOff x="6777720" y="4519440"/>
              <a:chExt cx="384480" cy="480600"/>
            </a:xfrm>
          </p:grpSpPr>
          <p:sp>
            <p:nvSpPr>
              <p:cNvPr id="383" name=""/>
              <p:cNvSpPr/>
              <p:nvPr/>
            </p:nvSpPr>
            <p:spPr>
              <a:xfrm>
                <a:off x="6777720" y="454032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7086240" y="4646520"/>
                <a:ext cx="75960" cy="228600"/>
                <a:chOff x="7086240" y="4646520"/>
                <a:chExt cx="75960" cy="228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86240" y="46465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086240" y="4799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819840" y="4519440"/>
                <a:ext cx="227880" cy="76320"/>
                <a:chOff x="6819840" y="4519440"/>
                <a:chExt cx="227880" cy="76320"/>
              </a:xfrm>
            </p:grpSpPr>
            <p:sp>
              <p:nvSpPr>
                <p:cNvPr id="388" name=""/>
                <p:cNvSpPr/>
                <p:nvPr/>
              </p:nvSpPr>
              <p:spPr>
                <a:xfrm rot="5400000">
                  <a:off x="6971400" y="45194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5400000">
                  <a:off x="6819480" y="45198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819840" y="4913280"/>
                <a:ext cx="227880" cy="76320"/>
                <a:chOff x="6819840" y="4913280"/>
                <a:chExt cx="22788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6971400" y="49132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6819480" y="491364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6323040" y="475452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67920" y="3716280"/>
            <a:ext cx="32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F</a:t>
            </a:r>
            <a:r>
              <a:rPr b="1" lang="en-US" sz="24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280" y="4267080"/>
            <a:ext cx="9020520" cy="2057400"/>
            <a:chOff x="125280" y="4267080"/>
            <a:chExt cx="9020520" cy="2057400"/>
          </a:xfrm>
        </p:grpSpPr>
        <p:grpSp>
          <p:nvGrpSpPr>
            <p:cNvPr id="396" name=""/>
            <p:cNvGrpSpPr/>
            <p:nvPr/>
          </p:nvGrpSpPr>
          <p:grpSpPr>
            <a:xfrm>
              <a:off x="7010280" y="4267080"/>
              <a:ext cx="2135520" cy="1015920"/>
              <a:chOff x="7010280" y="4267080"/>
              <a:chExt cx="2135520" cy="10159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7010280" y="4267080"/>
                <a:ext cx="838440" cy="1015920"/>
                <a:chOff x="7010280" y="4267080"/>
                <a:chExt cx="838440" cy="1015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7010280" y="426708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7010280" y="48639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38880" y="476244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7786800" y="45655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998880" y="4267080"/>
              <a:ext cx="2097000" cy="1015920"/>
              <a:chOff x="3998880" y="4267080"/>
              <a:chExt cx="2097000" cy="1015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257800" y="4267080"/>
                <a:ext cx="838080" cy="1015920"/>
                <a:chOff x="5257800" y="4267080"/>
                <a:chExt cx="838080" cy="1015920"/>
              </a:xfrm>
            </p:grpSpPr>
            <p:sp>
              <p:nvSpPr>
                <p:cNvPr id="404" name=""/>
                <p:cNvSpPr/>
                <p:nvPr/>
              </p:nvSpPr>
              <p:spPr>
                <a:xfrm flipH="1">
                  <a:off x="5257800" y="426708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257800" y="4863960"/>
                  <a:ext cx="83808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258160" y="4762440"/>
                  <a:ext cx="60948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3998880" y="45529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01800" y="5308560"/>
              <a:ext cx="2135520" cy="1015920"/>
              <a:chOff x="2701800" y="5308560"/>
              <a:chExt cx="2135520" cy="1015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701800" y="530856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701800" y="5905440"/>
                <a:ext cx="838440" cy="419040"/>
              </a:xfrm>
              <a:custGeom>
                <a:avLst/>
                <a:gdLst/>
                <a:ahLst/>
                <a:rect l="l" t="t" r="r" b="b"/>
                <a:pathLst>
                  <a:path w="528" h="264">
                    <a:moveTo>
                      <a:pt x="0" y="120"/>
                    </a:moveTo>
                    <a:cubicBezTo>
                      <a:pt x="28" y="60"/>
                      <a:pt x="56" y="0"/>
                      <a:pt x="144" y="24"/>
                    </a:cubicBezTo>
                    <a:cubicBezTo>
                      <a:pt x="232" y="48"/>
                      <a:pt x="380" y="156"/>
                      <a:pt x="528" y="264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930400" y="5803920"/>
                <a:ext cx="609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78320" y="561672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25280" y="5308560"/>
              <a:ext cx="2093760" cy="1015920"/>
              <a:chOff x="125280" y="5308560"/>
              <a:chExt cx="2093760" cy="101592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1380600" y="5308560"/>
                <a:ext cx="838440" cy="1015920"/>
                <a:chOff x="1380600" y="5308560"/>
                <a:chExt cx="838440" cy="101592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1380240" y="530856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>
                  <a:off x="1380240" y="5905440"/>
                  <a:ext cx="838440" cy="419040"/>
                </a:xfrm>
                <a:custGeom>
                  <a:avLst/>
                  <a:gdLst/>
                  <a:ahLst/>
                  <a:rect l="l" t="t" r="r" b="b"/>
                  <a:pathLst>
                    <a:path w="528" h="264">
                      <a:moveTo>
                        <a:pt x="0" y="120"/>
                      </a:moveTo>
                      <a:cubicBezTo>
                        <a:pt x="28" y="60"/>
                        <a:pt x="56" y="0"/>
                        <a:pt x="144" y="24"/>
                      </a:cubicBezTo>
                      <a:cubicBezTo>
                        <a:pt x="232" y="48"/>
                        <a:pt x="380" y="156"/>
                        <a:pt x="528" y="264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1380600" y="5803920"/>
                  <a:ext cx="6098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25280" y="5619600"/>
                <a:ext cx="135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lon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pai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1105920" y="4654440"/>
            <a:ext cx="2652480" cy="1365480"/>
            <a:chOff x="1105920" y="4654440"/>
            <a:chExt cx="2652480" cy="1365480"/>
          </a:xfrm>
        </p:grpSpPr>
        <p:sp>
          <p:nvSpPr>
            <p:cNvPr id="420" name=""/>
            <p:cNvSpPr/>
            <p:nvPr/>
          </p:nvSpPr>
          <p:spPr>
            <a:xfrm>
              <a:off x="2336760" y="5562720"/>
              <a:ext cx="152280" cy="4572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05920" y="46544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13080" y="50292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208120" y="4876560"/>
            <a:ext cx="2652480" cy="862560"/>
            <a:chOff x="5208120" y="4876560"/>
            <a:chExt cx="2652480" cy="862560"/>
          </a:xfrm>
        </p:grpSpPr>
        <p:sp>
          <p:nvSpPr>
            <p:cNvPr id="424" name=""/>
            <p:cNvSpPr/>
            <p:nvPr/>
          </p:nvSpPr>
          <p:spPr>
            <a:xfrm>
              <a:off x="5208120" y="5340240"/>
              <a:ext cx="26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6527880" y="487656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32000" y="33984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4 The Co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129E-47B0-44F5-B571-3234AEFEE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68360" y="907920"/>
            <a:ext cx="842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wo shared electrons → one (single) 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Four shared electrons → two (double) covalent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Comic Sans MS"/>
              </a:rPr>
              <a:t>Six shared electrons → three (triple) covalent bo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F6E4-5FED-48A4-B922-E3B41DE93A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851360" y="1117440"/>
            <a:ext cx="685800" cy="1164600"/>
            <a:chOff x="4851360" y="1117440"/>
            <a:chExt cx="685800" cy="1164600"/>
          </a:xfrm>
        </p:grpSpPr>
        <p:sp>
          <p:nvSpPr>
            <p:cNvPr id="429" name=""/>
            <p:cNvSpPr/>
            <p:nvPr/>
          </p:nvSpPr>
          <p:spPr>
            <a:xfrm>
              <a:off x="4851360" y="11174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3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824400" y="1239840"/>
            <a:ext cx="431280" cy="459720"/>
            <a:chOff x="824400" y="1239840"/>
            <a:chExt cx="431280" cy="459720"/>
          </a:xfrm>
        </p:grpSpPr>
        <p:sp>
          <p:nvSpPr>
            <p:cNvPr id="432" name=""/>
            <p:cNvSpPr/>
            <p:nvPr/>
          </p:nvSpPr>
          <p:spPr>
            <a:xfrm>
              <a:off x="824400" y="123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179360" y="134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859120" y="1238400"/>
            <a:ext cx="430920" cy="459720"/>
            <a:chOff x="2859120" y="1238400"/>
            <a:chExt cx="430920" cy="459720"/>
          </a:xfrm>
        </p:grpSpPr>
        <p:sp>
          <p:nvSpPr>
            <p:cNvPr id="435" name=""/>
            <p:cNvSpPr/>
            <p:nvPr/>
          </p:nvSpPr>
          <p:spPr>
            <a:xfrm>
              <a:off x="2883600" y="12384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59120" y="1486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828800" y="1219320"/>
            <a:ext cx="444600" cy="480240"/>
            <a:chOff x="1828800" y="1219320"/>
            <a:chExt cx="444600" cy="480240"/>
          </a:xfrm>
        </p:grpSpPr>
        <p:sp>
          <p:nvSpPr>
            <p:cNvPr id="438" name=""/>
            <p:cNvSpPr/>
            <p:nvPr/>
          </p:nvSpPr>
          <p:spPr>
            <a:xfrm>
              <a:off x="1848960" y="1239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28800" y="14983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97080" y="134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930320" y="1219320"/>
              <a:ext cx="228600" cy="75960"/>
              <a:chOff x="1930320" y="1219320"/>
              <a:chExt cx="228600" cy="75960"/>
            </a:xfrm>
          </p:grpSpPr>
          <p:sp>
            <p:nvSpPr>
              <p:cNvPr id="442" name=""/>
              <p:cNvSpPr/>
              <p:nvPr/>
            </p:nvSpPr>
            <p:spPr>
              <a:xfrm rot="5400000">
                <a:off x="2082600" y="1218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5400000">
                <a:off x="1930320" y="1219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1930320" y="1612800"/>
              <a:ext cx="228600" cy="75960"/>
              <a:chOff x="1930320" y="1612800"/>
              <a:chExt cx="228600" cy="75960"/>
            </a:xfrm>
          </p:grpSpPr>
          <p:sp>
            <p:nvSpPr>
              <p:cNvPr id="445" name=""/>
              <p:cNvSpPr/>
              <p:nvPr/>
            </p:nvSpPr>
            <p:spPr>
              <a:xfrm rot="5400000">
                <a:off x="2082600" y="1612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1930320" y="16128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135612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72400" y="1225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41600" y="1460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634640" y="1219320"/>
            <a:ext cx="3671280" cy="480240"/>
            <a:chOff x="4634640" y="1219320"/>
            <a:chExt cx="3671280" cy="480240"/>
          </a:xfrm>
        </p:grpSpPr>
        <p:grpSp>
          <p:nvGrpSpPr>
            <p:cNvPr id="451" name=""/>
            <p:cNvGrpSpPr/>
            <p:nvPr/>
          </p:nvGrpSpPr>
          <p:grpSpPr>
            <a:xfrm>
              <a:off x="4634640" y="1219320"/>
              <a:ext cx="1144080" cy="480240"/>
              <a:chOff x="4634640" y="1219320"/>
              <a:chExt cx="1144080" cy="4802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4978080" y="1219320"/>
                <a:ext cx="443880" cy="480240"/>
                <a:chOff x="4978080" y="1219320"/>
                <a:chExt cx="443880" cy="4802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997520" y="12398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4978080" y="1346040"/>
                  <a:ext cx="75960" cy="228600"/>
                  <a:chOff x="4978080" y="1346040"/>
                  <a:chExt cx="75960" cy="22860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4978080" y="1346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978080" y="1498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5346000" y="1346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5079600" y="1219320"/>
                  <a:ext cx="227880" cy="75960"/>
                  <a:chOff x="5079600" y="1219320"/>
                  <a:chExt cx="227880" cy="75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5400000">
                    <a:off x="5231520" y="1219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5400000">
                    <a:off x="5079240" y="1219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079600" y="1612800"/>
                  <a:ext cx="227880" cy="76320"/>
                  <a:chOff x="5079600" y="1612800"/>
                  <a:chExt cx="227880" cy="76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5400000">
                    <a:off x="5231160" y="1612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5400000">
                    <a:off x="5079240" y="1613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"/>
              <p:cNvSpPr/>
              <p:nvPr/>
            </p:nvSpPr>
            <p:spPr>
              <a:xfrm>
                <a:off x="5346360" y="14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464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22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793200" y="1219320"/>
              <a:ext cx="1512720" cy="480240"/>
              <a:chOff x="6793200" y="1219320"/>
              <a:chExt cx="1512720" cy="480240"/>
            </a:xfrm>
          </p:grpSpPr>
          <p:sp>
            <p:nvSpPr>
              <p:cNvPr id="468" name=""/>
              <p:cNvSpPr/>
              <p:nvPr/>
            </p:nvSpPr>
            <p:spPr>
              <a:xfrm>
                <a:off x="7334640" y="123984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416720" y="1219320"/>
                <a:ext cx="227880" cy="75960"/>
                <a:chOff x="7416720" y="1219320"/>
                <a:chExt cx="227880" cy="75960"/>
              </a:xfrm>
            </p:grpSpPr>
            <p:sp>
              <p:nvSpPr>
                <p:cNvPr id="470" name=""/>
                <p:cNvSpPr/>
                <p:nvPr/>
              </p:nvSpPr>
              <p:spPr>
                <a:xfrm rot="5400000">
                  <a:off x="7568640" y="1219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400000">
                  <a:off x="7416360" y="121932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16720" y="1612800"/>
                <a:ext cx="227880" cy="76320"/>
                <a:chOff x="7416720" y="1612800"/>
                <a:chExt cx="227880" cy="76320"/>
              </a:xfrm>
            </p:grpSpPr>
            <p:sp>
              <p:nvSpPr>
                <p:cNvPr id="473" name=""/>
                <p:cNvSpPr/>
                <p:nvPr/>
              </p:nvSpPr>
              <p:spPr>
                <a:xfrm rot="5400000">
                  <a:off x="7568280" y="1612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5400000">
                  <a:off x="7416360" y="1613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7682760" y="1460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98840" y="1460520"/>
                <a:ext cx="30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9948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93200" y="12384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064920" y="1238400"/>
              <a:ext cx="49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63720" y="1130400"/>
            <a:ext cx="583200" cy="1151640"/>
            <a:chOff x="4563720" y="1130400"/>
            <a:chExt cx="583200" cy="1151640"/>
          </a:xfrm>
        </p:grpSpPr>
        <p:sp>
          <p:nvSpPr>
            <p:cNvPr id="481" name=""/>
            <p:cNvSpPr/>
            <p:nvPr/>
          </p:nvSpPr>
          <p:spPr>
            <a:xfrm>
              <a:off x="463536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6372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54200" y="1130400"/>
            <a:ext cx="583200" cy="1151640"/>
            <a:chOff x="5254200" y="1130400"/>
            <a:chExt cx="583200" cy="1151640"/>
          </a:xfrm>
        </p:grpSpPr>
        <p:sp>
          <p:nvSpPr>
            <p:cNvPr id="484" name=""/>
            <p:cNvSpPr/>
            <p:nvPr/>
          </p:nvSpPr>
          <p:spPr>
            <a:xfrm>
              <a:off x="5325840" y="1130400"/>
              <a:ext cx="45684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54200" y="1822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97040" y="4906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wis structur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4680" y="2700360"/>
            <a:ext cx="78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ble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wo atoms share two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162840" y="603360"/>
            <a:ext cx="2774520" cy="755640"/>
            <a:chOff x="6162840" y="603360"/>
            <a:chExt cx="2774520" cy="755640"/>
          </a:xfrm>
        </p:grpSpPr>
        <p:sp>
          <p:nvSpPr>
            <p:cNvPr id="489" name=""/>
            <p:cNvSpPr/>
            <p:nvPr/>
          </p:nvSpPr>
          <p:spPr>
            <a:xfrm>
              <a:off x="6162840" y="603360"/>
              <a:ext cx="277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ingle covalent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88120" y="901800"/>
              <a:ext cx="26604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607160" y="901800"/>
              <a:ext cx="26640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168" y="0"/>
                  </a:moveTo>
                  <a:cubicBezTo>
                    <a:pt x="108" y="48"/>
                    <a:pt x="48" y="96"/>
                    <a:pt x="24" y="144"/>
                  </a:cubicBezTo>
                  <a:cubicBezTo>
                    <a:pt x="0" y="192"/>
                    <a:pt x="12" y="240"/>
                    <a:pt x="24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395080" y="3492360"/>
            <a:ext cx="1405080" cy="491400"/>
            <a:chOff x="2395080" y="3492360"/>
            <a:chExt cx="1405080" cy="491400"/>
          </a:xfrm>
        </p:grpSpPr>
        <p:sp>
          <p:nvSpPr>
            <p:cNvPr id="493" name=""/>
            <p:cNvSpPr/>
            <p:nvPr/>
          </p:nvSpPr>
          <p:spPr>
            <a:xfrm>
              <a:off x="239508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476080" y="3492360"/>
              <a:ext cx="228600" cy="75960"/>
              <a:chOff x="2476080" y="3492360"/>
              <a:chExt cx="228600" cy="7596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628360" y="3492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5400000">
                <a:off x="2476080" y="3492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476080" y="3885840"/>
              <a:ext cx="228600" cy="76320"/>
              <a:chOff x="2476080" y="3885840"/>
              <a:chExt cx="228600" cy="7632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2628360" y="38858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5400000">
                <a:off x="2475720" y="38858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2882880" y="3771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361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2400" y="3524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3317400" y="3492360"/>
              <a:ext cx="482760" cy="480240"/>
              <a:chOff x="3317400" y="3492360"/>
              <a:chExt cx="482760" cy="480240"/>
            </a:xfrm>
          </p:grpSpPr>
          <p:sp>
            <p:nvSpPr>
              <p:cNvPr id="506" name=""/>
              <p:cNvSpPr/>
              <p:nvPr/>
            </p:nvSpPr>
            <p:spPr>
              <a:xfrm>
                <a:off x="331884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5708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5708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3571560" y="3492360"/>
                <a:ext cx="228600" cy="76320"/>
                <a:chOff x="3571560" y="3492360"/>
                <a:chExt cx="228600" cy="76320"/>
              </a:xfrm>
            </p:grpSpPr>
            <p:sp>
              <p:nvSpPr>
                <p:cNvPr id="510" name=""/>
                <p:cNvSpPr/>
                <p:nvPr/>
              </p:nvSpPr>
              <p:spPr>
                <a:xfrm rot="5400000">
                  <a:off x="3723840" y="3492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5400000">
                  <a:off x="3571200" y="3492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571560" y="3886200"/>
                <a:ext cx="228600" cy="75960"/>
                <a:chOff x="3571560" y="3886200"/>
                <a:chExt cx="228600" cy="7596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3723840" y="3885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3571560" y="3886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3317400" y="377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17400" y="36194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534920" y="35114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765400" y="3498840"/>
            <a:ext cx="1897560" cy="478800"/>
            <a:chOff x="5765400" y="3498840"/>
            <a:chExt cx="1897560" cy="478800"/>
          </a:xfrm>
        </p:grpSpPr>
        <p:sp>
          <p:nvSpPr>
            <p:cNvPr id="519" name=""/>
            <p:cNvSpPr/>
            <p:nvPr/>
          </p:nvSpPr>
          <p:spPr>
            <a:xfrm>
              <a:off x="5765400" y="351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5846400" y="3498840"/>
              <a:ext cx="228600" cy="469800"/>
              <a:chOff x="5846400" y="3498840"/>
              <a:chExt cx="228600" cy="4698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5846400" y="3498840"/>
                <a:ext cx="228600" cy="75960"/>
                <a:chOff x="5846400" y="3498840"/>
                <a:chExt cx="228600" cy="75960"/>
              </a:xfrm>
            </p:grpSpPr>
            <p:sp>
              <p:nvSpPr>
                <p:cNvPr id="522" name=""/>
                <p:cNvSpPr/>
                <p:nvPr/>
              </p:nvSpPr>
              <p:spPr>
                <a:xfrm rot="5400000">
                  <a:off x="5998680" y="349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5400000">
                  <a:off x="5846400" y="34988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46400" y="3892320"/>
                <a:ext cx="228600" cy="76320"/>
                <a:chOff x="5846400" y="3892320"/>
                <a:chExt cx="228600" cy="76320"/>
              </a:xfrm>
            </p:grpSpPr>
            <p:sp>
              <p:nvSpPr>
                <p:cNvPr id="525" name=""/>
                <p:cNvSpPr/>
                <p:nvPr/>
              </p:nvSpPr>
              <p:spPr>
                <a:xfrm rot="5400000">
                  <a:off x="5998680" y="3892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400000">
                  <a:off x="5846040" y="3892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6184800" y="3695400"/>
              <a:ext cx="381240" cy="76320"/>
              <a:chOff x="6184800" y="3695400"/>
              <a:chExt cx="381240" cy="76320"/>
            </a:xfrm>
          </p:grpSpPr>
          <p:sp>
            <p:nvSpPr>
              <p:cNvPr id="528" name=""/>
              <p:cNvSpPr/>
              <p:nvPr/>
            </p:nvSpPr>
            <p:spPr>
              <a:xfrm>
                <a:off x="6184800" y="369540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84800" y="37717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6532200" y="351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2960" y="3498840"/>
              <a:ext cx="720000" cy="473760"/>
              <a:chOff x="6942960" y="3498840"/>
              <a:chExt cx="720000" cy="4737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6942960" y="35128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7434360" y="3498840"/>
                <a:ext cx="228600" cy="469800"/>
                <a:chOff x="7434360" y="3498840"/>
                <a:chExt cx="228600" cy="469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7434360" y="3498840"/>
                  <a:ext cx="228600" cy="75960"/>
                  <a:chOff x="7434360" y="3498840"/>
                  <a:chExt cx="228600" cy="759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flipH="1" rot="16200000">
                    <a:off x="7434360" y="349848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rot="16200000">
                    <a:off x="7586640" y="3498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34360" y="3892320"/>
                  <a:ext cx="228600" cy="76320"/>
                  <a:chOff x="7434360" y="3892320"/>
                  <a:chExt cx="228600" cy="76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 rot="16200000">
                    <a:off x="7434360" y="389232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 rot="16200000">
                    <a:off x="7586280" y="3892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"/>
              <p:cNvGrpSpPr/>
              <p:nvPr/>
            </p:nvGrpSpPr>
            <p:grpSpPr>
              <a:xfrm>
                <a:off x="6943320" y="3695400"/>
                <a:ext cx="380880" cy="75960"/>
                <a:chOff x="6943320" y="3695400"/>
                <a:chExt cx="380880" cy="75960"/>
              </a:xfrm>
            </p:grpSpPr>
            <p:sp>
              <p:nvSpPr>
                <p:cNvPr id="541" name=""/>
                <p:cNvSpPr/>
                <p:nvPr/>
              </p:nvSpPr>
              <p:spPr>
                <a:xfrm flipH="1">
                  <a:off x="6943320" y="36954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6943320" y="377136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3" name=""/>
          <p:cNvGrpSpPr/>
          <p:nvPr/>
        </p:nvGrpSpPr>
        <p:grpSpPr>
          <a:xfrm>
            <a:off x="2336760" y="3416400"/>
            <a:ext cx="685800" cy="1151640"/>
            <a:chOff x="2336760" y="3416400"/>
            <a:chExt cx="685800" cy="1151640"/>
          </a:xfrm>
        </p:grpSpPr>
        <p:sp>
          <p:nvSpPr>
            <p:cNvPr id="544" name=""/>
            <p:cNvSpPr/>
            <p:nvPr/>
          </p:nvSpPr>
          <p:spPr>
            <a:xfrm>
              <a:off x="233676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896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200400" y="3416400"/>
            <a:ext cx="685800" cy="1151640"/>
            <a:chOff x="3200400" y="3416400"/>
            <a:chExt cx="685800" cy="1151640"/>
          </a:xfrm>
        </p:grpSpPr>
        <p:sp>
          <p:nvSpPr>
            <p:cNvPr id="547" name=""/>
            <p:cNvSpPr/>
            <p:nvPr/>
          </p:nvSpPr>
          <p:spPr>
            <a:xfrm>
              <a:off x="3200400" y="3416400"/>
              <a:ext cx="68580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5260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717640" y="3416400"/>
            <a:ext cx="761760" cy="1151640"/>
            <a:chOff x="2717640" y="3416400"/>
            <a:chExt cx="761760" cy="1151640"/>
          </a:xfrm>
        </p:grpSpPr>
        <p:sp>
          <p:nvSpPr>
            <p:cNvPr id="550" name=""/>
            <p:cNvSpPr/>
            <p:nvPr/>
          </p:nvSpPr>
          <p:spPr>
            <a:xfrm>
              <a:off x="2717640" y="3416400"/>
              <a:ext cx="761760" cy="609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10880" y="4108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164320" y="3492360"/>
            <a:ext cx="1826640" cy="1074960"/>
            <a:chOff x="2164320" y="3492360"/>
            <a:chExt cx="1826640" cy="1074960"/>
          </a:xfrm>
        </p:grpSpPr>
        <p:sp>
          <p:nvSpPr>
            <p:cNvPr id="553" name=""/>
            <p:cNvSpPr/>
            <p:nvPr/>
          </p:nvSpPr>
          <p:spPr>
            <a:xfrm>
              <a:off x="265428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49640" y="3492360"/>
              <a:ext cx="38124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4320" y="416844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796360" y="3873240"/>
            <a:ext cx="1826640" cy="583560"/>
            <a:chOff x="5796360" y="3873240"/>
            <a:chExt cx="1826640" cy="583560"/>
          </a:xfrm>
        </p:grpSpPr>
        <p:sp>
          <p:nvSpPr>
            <p:cNvPr id="557" name=""/>
            <p:cNvSpPr/>
            <p:nvPr/>
          </p:nvSpPr>
          <p:spPr>
            <a:xfrm flipH="1" flipV="1">
              <a:off x="638784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6768720" y="3873240"/>
              <a:ext cx="22824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796360" y="4057920"/>
              <a:ext cx="182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ouble bo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25040" y="4718160"/>
            <a:ext cx="81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ple bon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two atoms share three pairs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336760" y="5479920"/>
            <a:ext cx="1095840" cy="461160"/>
            <a:chOff x="2336760" y="5479920"/>
            <a:chExt cx="1095840" cy="461160"/>
          </a:xfrm>
        </p:grpSpPr>
        <p:grpSp>
          <p:nvGrpSpPr>
            <p:cNvPr id="562" name=""/>
            <p:cNvGrpSpPr/>
            <p:nvPr/>
          </p:nvGrpSpPr>
          <p:grpSpPr>
            <a:xfrm>
              <a:off x="2360160" y="5479920"/>
              <a:ext cx="1072440" cy="461160"/>
              <a:chOff x="2360160" y="5479920"/>
              <a:chExt cx="1072440" cy="461160"/>
            </a:xfrm>
          </p:grpSpPr>
          <p:sp>
            <p:nvSpPr>
              <p:cNvPr id="563" name=""/>
              <p:cNvSpPr/>
              <p:nvPr/>
            </p:nvSpPr>
            <p:spPr>
              <a:xfrm>
                <a:off x="2360160" y="548136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718000" y="5587560"/>
                <a:ext cx="355320" cy="227880"/>
                <a:chOff x="2718000" y="5587560"/>
                <a:chExt cx="355320" cy="22788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718000" y="5587560"/>
                  <a:ext cx="75960" cy="227880"/>
                  <a:chOff x="2718000" y="5587560"/>
                  <a:chExt cx="75960" cy="2278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271800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71800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2857680" y="5587560"/>
                  <a:ext cx="75960" cy="227880"/>
                  <a:chOff x="2857680" y="5587560"/>
                  <a:chExt cx="75960" cy="22788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285768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85768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997360" y="5587560"/>
                  <a:ext cx="75960" cy="227880"/>
                  <a:chOff x="2997360" y="5587560"/>
                  <a:chExt cx="75960" cy="22788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2997360" y="5587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997360" y="5739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4" name=""/>
              <p:cNvSpPr/>
              <p:nvPr/>
            </p:nvSpPr>
            <p:spPr>
              <a:xfrm>
                <a:off x="3020400" y="5479920"/>
                <a:ext cx="41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340080" y="5587920"/>
              <a:ext cx="76320" cy="228600"/>
              <a:chOff x="3340080" y="5587920"/>
              <a:chExt cx="76320" cy="228600"/>
            </a:xfrm>
          </p:grpSpPr>
          <p:sp>
            <p:nvSpPr>
              <p:cNvPr id="576" name=""/>
              <p:cNvSpPr/>
              <p:nvPr/>
            </p:nvSpPr>
            <p:spPr>
              <a:xfrm>
                <a:off x="334008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34008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336760" y="5587920"/>
              <a:ext cx="76320" cy="228600"/>
              <a:chOff x="2336760" y="5587920"/>
              <a:chExt cx="76320" cy="228600"/>
            </a:xfrm>
          </p:grpSpPr>
          <p:sp>
            <p:nvSpPr>
              <p:cNvPr id="579" name=""/>
              <p:cNvSpPr/>
              <p:nvPr/>
            </p:nvSpPr>
            <p:spPr>
              <a:xfrm>
                <a:off x="2336760" y="5587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36760" y="5740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2197080" y="5511960"/>
            <a:ext cx="990720" cy="847080"/>
            <a:chOff x="2197080" y="5511960"/>
            <a:chExt cx="990720" cy="847080"/>
          </a:xfrm>
        </p:grpSpPr>
        <p:sp>
          <p:nvSpPr>
            <p:cNvPr id="582" name=""/>
            <p:cNvSpPr/>
            <p:nvPr/>
          </p:nvSpPr>
          <p:spPr>
            <a:xfrm>
              <a:off x="219708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0156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577960" y="5511960"/>
            <a:ext cx="990720" cy="847080"/>
            <a:chOff x="2577960" y="5511960"/>
            <a:chExt cx="990720" cy="847080"/>
          </a:xfrm>
        </p:grpSpPr>
        <p:sp>
          <p:nvSpPr>
            <p:cNvPr id="585" name=""/>
            <p:cNvSpPr/>
            <p:nvPr/>
          </p:nvSpPr>
          <p:spPr>
            <a:xfrm>
              <a:off x="2577960" y="5511960"/>
              <a:ext cx="99072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82440" y="5899320"/>
              <a:ext cx="58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146640" y="5479920"/>
            <a:ext cx="1159200" cy="461160"/>
            <a:chOff x="6146640" y="5479920"/>
            <a:chExt cx="1159200" cy="461160"/>
          </a:xfrm>
        </p:grpSpPr>
        <p:sp>
          <p:nvSpPr>
            <p:cNvPr id="588" name=""/>
            <p:cNvSpPr/>
            <p:nvPr/>
          </p:nvSpPr>
          <p:spPr>
            <a:xfrm>
              <a:off x="6169680" y="548136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93640" y="547992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13320" y="55879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3320" y="574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146640" y="55879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46640" y="5740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27520" y="56257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27520" y="57020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27520" y="577836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83200" y="5854320"/>
            <a:ext cx="1499040" cy="697680"/>
            <a:chOff x="5983200" y="5854320"/>
            <a:chExt cx="1499040" cy="697680"/>
          </a:xfrm>
        </p:grpSpPr>
        <p:sp>
          <p:nvSpPr>
            <p:cNvPr id="598" name=""/>
            <p:cNvSpPr/>
            <p:nvPr/>
          </p:nvSpPr>
          <p:spPr>
            <a:xfrm flipV="1">
              <a:off x="6730920" y="5854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83200" y="615312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35160" y="5511960"/>
            <a:ext cx="1499040" cy="824400"/>
            <a:chOff x="2135160" y="5511960"/>
            <a:chExt cx="1499040" cy="824400"/>
          </a:xfrm>
        </p:grpSpPr>
        <p:sp>
          <p:nvSpPr>
            <p:cNvPr id="601" name=""/>
            <p:cNvSpPr/>
            <p:nvPr/>
          </p:nvSpPr>
          <p:spPr>
            <a:xfrm>
              <a:off x="2629080" y="5511960"/>
              <a:ext cx="53316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35160" y="5937480"/>
              <a:ext cx="149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riple b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4541400" y="54799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0742-28CC-4447-93A2-BB154E0BE1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0920" y="2193840"/>
            <a:ext cx="5486400" cy="3584520"/>
            <a:chOff x="250920" y="2193840"/>
            <a:chExt cx="5486400" cy="358452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250920" y="2193840"/>
              <a:ext cx="548640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465920" y="3777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06280" y="3740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879240" y="2930400"/>
            <a:ext cx="1053360" cy="491400"/>
            <a:chOff x="6879240" y="2930400"/>
            <a:chExt cx="1053360" cy="491400"/>
          </a:xfrm>
        </p:grpSpPr>
        <p:sp>
          <p:nvSpPr>
            <p:cNvPr id="609" name=""/>
            <p:cNvSpPr/>
            <p:nvPr/>
          </p:nvSpPr>
          <p:spPr>
            <a:xfrm>
              <a:off x="7547760" y="2950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7856280" y="3057120"/>
              <a:ext cx="76320" cy="228600"/>
              <a:chOff x="7856280" y="3057120"/>
              <a:chExt cx="76320" cy="22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7856280" y="30571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56280" y="32097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589520" y="2930400"/>
              <a:ext cx="228600" cy="75960"/>
              <a:chOff x="7589520" y="2930400"/>
              <a:chExt cx="228600" cy="75960"/>
            </a:xfrm>
          </p:grpSpPr>
          <p:sp>
            <p:nvSpPr>
              <p:cNvPr id="614" name=""/>
              <p:cNvSpPr/>
              <p:nvPr/>
            </p:nvSpPr>
            <p:spPr>
              <a:xfrm rot="5400000">
                <a:off x="7741800" y="2930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400000">
                <a:off x="7589520" y="2930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7589520" y="3323880"/>
              <a:ext cx="228600" cy="76320"/>
              <a:chOff x="7589520" y="3323880"/>
              <a:chExt cx="228600" cy="76320"/>
            </a:xfrm>
          </p:grpSpPr>
          <p:sp>
            <p:nvSpPr>
              <p:cNvPr id="617" name=""/>
              <p:cNvSpPr/>
              <p:nvPr/>
            </p:nvSpPr>
            <p:spPr>
              <a:xfrm rot="5400000">
                <a:off x="7741800" y="3323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5400000">
                <a:off x="7589160" y="3323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879240" y="29620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21240" y="31716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49200" y="357120"/>
            <a:ext cx="889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covalent bo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lar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covalent bond with greater electron density around one of the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76560" y="2773440"/>
            <a:ext cx="17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electron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4080" y="2925720"/>
            <a:ext cx="189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electron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mic Sans MS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477560" y="24922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323040" y="2492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9999cc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9999cc"/>
                </a:solidFill>
                <a:latin typeface="Comic Sans MS"/>
              </a:rPr>
              <a:t> p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508720" y="4521240"/>
            <a:ext cx="367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n-metal-High EN- &amp; non-metal-High EN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lar covalent bo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h have High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T: Significant difference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481D-BFEB-42FE-8118-D867FFF677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64960" y="40464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.5 Electronegativity: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bility of an atom to attract toward itself the electrons in a chemical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087200" y="186048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 Affin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eas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l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4120" y="36133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egativity -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F is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6320" y="2690640"/>
            <a:ext cx="3333960" cy="560880"/>
            <a:chOff x="3046320" y="2690640"/>
            <a:chExt cx="3333960" cy="560880"/>
          </a:xfrm>
        </p:grpSpPr>
        <p:sp>
          <p:nvSpPr>
            <p:cNvPr id="631" name=""/>
            <p:cNvSpPr/>
            <p:nvPr/>
          </p:nvSpPr>
          <p:spPr>
            <a:xfrm>
              <a:off x="3046320" y="2690640"/>
              <a:ext cx="3333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      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2840" y="291924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700360" y="4221000"/>
            <a:ext cx="346068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BD61-4462-4098-94C3-BBA554412B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32560" y="595440"/>
            <a:ext cx="87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lectronegativities of Common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250920" y="1866960"/>
            <a:ext cx="8785080" cy="36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64F9-5118-4905-B18C-AF06DFF45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660600" y="5299200"/>
            <a:ext cx="1433520" cy="1110600"/>
            <a:chOff x="660600" y="5299200"/>
            <a:chExt cx="1433520" cy="1110600"/>
          </a:xfrm>
        </p:grpSpPr>
        <p:sp>
          <p:nvSpPr>
            <p:cNvPr id="637" name=""/>
            <p:cNvSpPr/>
            <p:nvPr/>
          </p:nvSpPr>
          <p:spPr>
            <a:xfrm>
              <a:off x="660600" y="529920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5160" y="5950080"/>
              <a:ext cx="12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hare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220840" y="5299200"/>
            <a:ext cx="4089240" cy="1055160"/>
            <a:chOff x="2220840" y="5299200"/>
            <a:chExt cx="4089240" cy="1055160"/>
          </a:xfrm>
        </p:grpSpPr>
        <p:sp>
          <p:nvSpPr>
            <p:cNvPr id="640" name=""/>
            <p:cNvSpPr/>
            <p:nvPr/>
          </p:nvSpPr>
          <p:spPr>
            <a:xfrm>
              <a:off x="3547800" y="52992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lar Coval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86000" y="58946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rtial transfer of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2084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031080" y="5299200"/>
            <a:ext cx="2757240" cy="1110600"/>
            <a:chOff x="6031080" y="5299200"/>
            <a:chExt cx="2757240" cy="1110600"/>
          </a:xfrm>
        </p:grpSpPr>
        <p:sp>
          <p:nvSpPr>
            <p:cNvPr id="644" name=""/>
            <p:cNvSpPr/>
            <p:nvPr/>
          </p:nvSpPr>
          <p:spPr>
            <a:xfrm>
              <a:off x="7345080" y="52992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o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53560" y="595008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fer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031080" y="58248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11360" y="4346640"/>
            <a:ext cx="6149520" cy="487080"/>
            <a:chOff x="1611360" y="4346640"/>
            <a:chExt cx="6149520" cy="487080"/>
          </a:xfrm>
        </p:grpSpPr>
        <p:sp>
          <p:nvSpPr>
            <p:cNvPr id="648" name=""/>
            <p:cNvSpPr/>
            <p:nvPr/>
          </p:nvSpPr>
          <p:spPr>
            <a:xfrm>
              <a:off x="1611360" y="483372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09640" y="4346640"/>
              <a:ext cx="605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creasing difference in electronega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441360" y="353880"/>
            <a:ext cx="859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lassification of bonds by difference in electroneg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2050920" y="1935000"/>
          <a:ext cx="4968720" cy="2070000"/>
        </p:xfrm>
        <a:graphic>
          <a:graphicData uri="http://schemas.openxmlformats.org/drawingml/2006/table">
            <a:tbl>
              <a:tblPr/>
              <a:tblGrid>
                <a:gridCol w="2341440"/>
                <a:gridCol w="262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Bon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&lt; and &lt;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ar 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C0A0-65F1-42AF-8B80-B7FBE31C9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Content Placeholder 16"/>
          <p:cNvSpPr/>
          <p:nvPr/>
        </p:nvSpPr>
        <p:spPr>
          <a:xfrm>
            <a:off x="179280" y="1127160"/>
            <a:ext cx="4040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HCl = 3 - 2.1 = 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KF = 4 - 0.8 =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C-C = 2.5 - 2.5 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Content Placeholder 18"/>
          <p:cNvSpPr/>
          <p:nvPr/>
        </p:nvSpPr>
        <p:spPr>
          <a:xfrm>
            <a:off x="4500720" y="530280"/>
            <a:ext cx="4437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Classify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onds as ionic, polar covalent, or 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CsCl = 3 – 1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= 2.5 - 2.1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Polar co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 N-N = 3 - 3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co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4000" y="533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2 p37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692280"/>
            <a:ext cx="0" cy="61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F599-32B8-484E-AA99-050E84C892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060720" y="333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hemical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4211640" y="-2114280"/>
            <a:ext cx="792000" cy="6840720"/>
          </a:xfrm>
          <a:custGeom>
            <a:avLst/>
            <a:gdLst>
              <a:gd name="textAreaLeft" fmla="*/ 0 w 792000"/>
              <a:gd name="textAreaRight" fmla="*/ 285840 w 792000"/>
              <a:gd name="textAreaTop" fmla="*/ 178200 h 6840720"/>
              <a:gd name="textAreaBottom" fmla="*/ 6662520 h 684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4360" y="1701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12000" y="1701720"/>
            <a:ext cx="29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ovalent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23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32360" y="2278080"/>
            <a:ext cx="42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Non-m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Non-metal + Metal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8360" y="2998800"/>
                <a:ext cx="2519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 rot="16200000">
            <a:off x="4823280" y="1017720"/>
            <a:ext cx="863640" cy="6408720"/>
          </a:xfrm>
          <a:custGeom>
            <a:avLst/>
            <a:gdLst>
              <a:gd name="textAreaLeft" fmla="*/ 0 w 863640"/>
              <a:gd name="textAreaRight" fmla="*/ 311760 w 86364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-36360" y="4654440"/>
            <a:ext cx="4319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Non 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Same element: H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F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,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0" y="46544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Polar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Different element:  H-F, H-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755640" y="5662440"/>
                <a:ext cx="244800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5651640" y="5662440"/>
                <a:ext cx="32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44360" y="6507000"/>
                <a:ext cx="8748720" cy="3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: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N</m:t>
                    </m:r>
                    <m:r>
                      <m:rPr>
                        <m:lit/>
                        <m:nor/>
                      </m:rPr>
                      <m:t xml:space="preserve"> is the difference in electronegativety between the two elemntes in the chemical bon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F1A45-A91A-49A6-9C59-D785CBE4E0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Chemical Bonding I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Basic concepts</a:t>
            </a:r>
            <a:br>
              <a:rPr sz="36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366-394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400-40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9.16, 9.18, 9.30, 9.36, 9.74, 9.44, 9.46, 9.48, 9.52, 9.56, 9.64, 9.80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53E5-0879-45EA-9B5D-11E742AD18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1640" y="990720"/>
            <a:ext cx="83059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keletal structure of compound showing what atoms are bonded to each othe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ut least electronegative element in the cen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t total number of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Add 1 for each negative charge.  Subtract 1 for each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w single covalent bond between the central atom and each of the surrounding atom, and complete an octet for all the surrounded atom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ydrogen. Count and Compare it with the  # of electrons in step 2 if they are identical stop, if it is less add the remaining electrons to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till the central atom has no octet, use  lone pair/s on the one of the surrounded atom to form double or triple bond with the central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8128-94E1-4916-B72F-54E93527B7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431640" y="990720"/>
            <a:ext cx="8305920" cy="67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الهيكل العام . كقاعده عامه ضعي الذره التي لها اقل سالبيه كهربيه في المرك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حسبي  الاكترونا ت الخارجيه. اضيف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سالبه واطرحي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لكل شحنه موجب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رسمي رابطه احاديه بين الذرات المحيطه والذره المركزيه. واكملي القاعده الثمانيه لكل الذرات المحيطه ماعدا الهايدروجين. ثم عدي الالكترونات اذا كانت اقل من الالكترونات المحسوبه في الخطوه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(الكترونات التكافؤ) توضع الاكترونات الزائده على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اذا كانت الذره المركزيه لازالت لاتحتوي على ثمانيه الكترونات نستخدم زوج\ازواج الكترونيه غير رابطه من الذرات المحيطه لتكوين رابطه ثنائيه اوثلاثيه ( حسب الحاجه) مع الذره المركزيه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2840" y="33984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6  Writing Lewis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AB93-C0B4-4D48-9F7E-B7771569D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133880" y="4805280"/>
            <a:ext cx="3462480" cy="200844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324000" y="404640"/>
            <a:ext cx="882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3 p38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nitrogen trifluoride (NF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 in which all three F atoms are bonded to the 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1725480"/>
            <a:ext cx="68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N is less electronegative than F, put N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959760" y="5207040"/>
            <a:ext cx="1938960" cy="1272600"/>
            <a:chOff x="959760" y="5207040"/>
            <a:chExt cx="1938960" cy="1272600"/>
          </a:xfrm>
        </p:grpSpPr>
        <p:sp>
          <p:nvSpPr>
            <p:cNvPr id="677" name=""/>
            <p:cNvSpPr/>
            <p:nvPr/>
          </p:nvSpPr>
          <p:spPr>
            <a:xfrm>
              <a:off x="95976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3600" y="520704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59600" y="52070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48520" y="6019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268280" y="5427720"/>
            <a:ext cx="1295280" cy="621360"/>
            <a:chOff x="1268280" y="5427720"/>
            <a:chExt cx="1295280" cy="621360"/>
          </a:xfrm>
        </p:grpSpPr>
        <p:sp>
          <p:nvSpPr>
            <p:cNvPr id="682" name=""/>
            <p:cNvSpPr/>
            <p:nvPr/>
          </p:nvSpPr>
          <p:spPr>
            <a:xfrm>
              <a:off x="126828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0636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190332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47240" y="2182680"/>
            <a:ext cx="781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N - 5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F - 7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4120" y="265572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+ (3 x 7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-25560" y="3021120"/>
            <a:ext cx="91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N and F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s on F atoms. Use all the e in step 2 (put the remaining 2 e on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33480" y="5175360"/>
            <a:ext cx="1980360" cy="1294920"/>
            <a:chOff x="933480" y="5175360"/>
            <a:chExt cx="1980360" cy="1294920"/>
          </a:xfrm>
        </p:grpSpPr>
        <p:grpSp>
          <p:nvGrpSpPr>
            <p:cNvPr id="689" name=""/>
            <p:cNvGrpSpPr/>
            <p:nvPr/>
          </p:nvGrpSpPr>
          <p:grpSpPr>
            <a:xfrm>
              <a:off x="2622600" y="5175360"/>
              <a:ext cx="227880" cy="75960"/>
              <a:chOff x="2622600" y="5175360"/>
              <a:chExt cx="227880" cy="75960"/>
            </a:xfrm>
          </p:grpSpPr>
          <p:sp>
            <p:nvSpPr>
              <p:cNvPr id="690" name=""/>
              <p:cNvSpPr/>
              <p:nvPr/>
            </p:nvSpPr>
            <p:spPr>
              <a:xfrm rot="5400000">
                <a:off x="27745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2224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37880" y="5328000"/>
              <a:ext cx="75960" cy="227880"/>
              <a:chOff x="2837880" y="5328000"/>
              <a:chExt cx="75960" cy="227880"/>
            </a:xfrm>
          </p:grpSpPr>
          <p:sp>
            <p:nvSpPr>
              <p:cNvPr id="693" name=""/>
              <p:cNvSpPr/>
              <p:nvPr/>
            </p:nvSpPr>
            <p:spPr>
              <a:xfrm rot="10800000">
                <a:off x="283788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0800000">
                <a:off x="283788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622600" y="5594040"/>
              <a:ext cx="227880" cy="75960"/>
              <a:chOff x="2622600" y="5594040"/>
              <a:chExt cx="227880" cy="75960"/>
            </a:xfrm>
          </p:grpSpPr>
          <p:sp>
            <p:nvSpPr>
              <p:cNvPr id="696" name=""/>
              <p:cNvSpPr/>
              <p:nvPr/>
            </p:nvSpPr>
            <p:spPr>
              <a:xfrm rot="5400000">
                <a:off x="277452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00000">
                <a:off x="262224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771920" y="6394320"/>
              <a:ext cx="227880" cy="75960"/>
              <a:chOff x="1771920" y="6394320"/>
              <a:chExt cx="227880" cy="75960"/>
            </a:xfrm>
          </p:grpSpPr>
          <p:sp>
            <p:nvSpPr>
              <p:cNvPr id="699" name=""/>
              <p:cNvSpPr/>
              <p:nvPr/>
            </p:nvSpPr>
            <p:spPr>
              <a:xfrm rot="5400000">
                <a:off x="192384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00000">
                <a:off x="1771560" y="6394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810080" y="5175360"/>
              <a:ext cx="227880" cy="75960"/>
              <a:chOff x="1810080" y="5175360"/>
              <a:chExt cx="227880" cy="75960"/>
            </a:xfrm>
          </p:grpSpPr>
          <p:sp>
            <p:nvSpPr>
              <p:cNvPr id="702" name=""/>
              <p:cNvSpPr/>
              <p:nvPr/>
            </p:nvSpPr>
            <p:spPr>
              <a:xfrm rot="5400000">
                <a:off x="196200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5400000">
                <a:off x="180972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657080" y="6127560"/>
              <a:ext cx="75960" cy="227880"/>
              <a:chOff x="1657080" y="6127560"/>
              <a:chExt cx="75960" cy="227880"/>
            </a:xfrm>
          </p:grpSpPr>
          <p:sp>
            <p:nvSpPr>
              <p:cNvPr id="705" name=""/>
              <p:cNvSpPr/>
              <p:nvPr/>
            </p:nvSpPr>
            <p:spPr>
              <a:xfrm>
                <a:off x="16570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570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2038320" y="6127560"/>
              <a:ext cx="75600" cy="227880"/>
              <a:chOff x="2038320" y="6127560"/>
              <a:chExt cx="75600" cy="227880"/>
            </a:xfrm>
          </p:grpSpPr>
          <p:sp>
            <p:nvSpPr>
              <p:cNvPr id="708" name=""/>
              <p:cNvSpPr/>
              <p:nvPr/>
            </p:nvSpPr>
            <p:spPr>
              <a:xfrm>
                <a:off x="2038320" y="612756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038320" y="627984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996840" y="5175360"/>
              <a:ext cx="227880" cy="75960"/>
              <a:chOff x="996840" y="5175360"/>
              <a:chExt cx="227880" cy="75960"/>
            </a:xfrm>
          </p:grpSpPr>
          <p:sp>
            <p:nvSpPr>
              <p:cNvPr id="711" name=""/>
              <p:cNvSpPr/>
              <p:nvPr/>
            </p:nvSpPr>
            <p:spPr>
              <a:xfrm flipH="1" rot="16200000">
                <a:off x="9964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rot="16200000">
                <a:off x="1148760" y="517536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933480" y="5328000"/>
              <a:ext cx="75960" cy="227880"/>
              <a:chOff x="933480" y="5328000"/>
              <a:chExt cx="75960" cy="227880"/>
            </a:xfrm>
          </p:grpSpPr>
          <p:sp>
            <p:nvSpPr>
              <p:cNvPr id="714" name=""/>
              <p:cNvSpPr/>
              <p:nvPr/>
            </p:nvSpPr>
            <p:spPr>
              <a:xfrm flipH="1" rot="10800000">
                <a:off x="933120" y="54799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0800000">
                <a:off x="933120" y="53280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996840" y="5594040"/>
              <a:ext cx="227880" cy="75960"/>
              <a:chOff x="996840" y="5594040"/>
              <a:chExt cx="227880" cy="75960"/>
            </a:xfrm>
          </p:grpSpPr>
          <p:sp>
            <p:nvSpPr>
              <p:cNvPr id="717" name=""/>
              <p:cNvSpPr/>
              <p:nvPr/>
            </p:nvSpPr>
            <p:spPr>
              <a:xfrm flipH="1" rot="16200000">
                <a:off x="9964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6200000">
                <a:off x="1148760" y="55940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>
            <a:off x="241920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559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300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8112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080" y="3922560"/>
            <a:ext cx="51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if all the atoms has oct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520" y="4471920"/>
            <a:ext cx="78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single bonds (3x2) + 10 lone pairs (10x2)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8BF1-C821-4368-AFAD-B205DF003F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81320" y="1268280"/>
            <a:ext cx="68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 is less electronegative than O, put C in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053720" y="5207040"/>
            <a:ext cx="2018520" cy="1272600"/>
            <a:chOff x="1053720" y="5207040"/>
            <a:chExt cx="2018520" cy="1272600"/>
          </a:xfrm>
        </p:grpSpPr>
        <p:sp>
          <p:nvSpPr>
            <p:cNvPr id="727" name=""/>
            <p:cNvSpPr/>
            <p:nvPr/>
          </p:nvSpPr>
          <p:spPr>
            <a:xfrm>
              <a:off x="10537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66240" y="5207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53920" y="52070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2480" y="6019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401840" y="5427720"/>
            <a:ext cx="1295280" cy="621360"/>
            <a:chOff x="1401840" y="5427720"/>
            <a:chExt cx="1295280" cy="621360"/>
          </a:xfrm>
        </p:grpSpPr>
        <p:sp>
          <p:nvSpPr>
            <p:cNvPr id="732" name=""/>
            <p:cNvSpPr/>
            <p:nvPr/>
          </p:nvSpPr>
          <p:spPr>
            <a:xfrm>
              <a:off x="140184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39920" y="5427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036880" y="559224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55840" y="1725480"/>
            <a:ext cx="778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unt valence electrons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and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2 charge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79040" y="25034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+ (3 x 6) + 2 =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4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18240" y="3005280"/>
            <a:ext cx="80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Draw single bonds between C and O atoms and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ctet on O atoms. Use all the e in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066680" y="5175360"/>
            <a:ext cx="1981440" cy="1294920"/>
            <a:chOff x="1066680" y="5175360"/>
            <a:chExt cx="1981440" cy="1294920"/>
          </a:xfrm>
        </p:grpSpPr>
        <p:grpSp>
          <p:nvGrpSpPr>
            <p:cNvPr id="739" name=""/>
            <p:cNvGrpSpPr/>
            <p:nvPr/>
          </p:nvGrpSpPr>
          <p:grpSpPr>
            <a:xfrm>
              <a:off x="2755440" y="5175360"/>
              <a:ext cx="228600" cy="75960"/>
              <a:chOff x="2755440" y="5175360"/>
              <a:chExt cx="228600" cy="75960"/>
            </a:xfrm>
          </p:grpSpPr>
          <p:sp>
            <p:nvSpPr>
              <p:cNvPr id="740" name=""/>
              <p:cNvSpPr/>
              <p:nvPr/>
            </p:nvSpPr>
            <p:spPr>
              <a:xfrm rot="5400000">
                <a:off x="290772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5400000">
                <a:off x="275544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971800" y="5328000"/>
              <a:ext cx="76320" cy="227880"/>
              <a:chOff x="2971800" y="5328000"/>
              <a:chExt cx="76320" cy="227880"/>
            </a:xfrm>
          </p:grpSpPr>
          <p:sp>
            <p:nvSpPr>
              <p:cNvPr id="743" name=""/>
              <p:cNvSpPr/>
              <p:nvPr/>
            </p:nvSpPr>
            <p:spPr>
              <a:xfrm rot="10800000">
                <a:off x="297180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0800000">
                <a:off x="297180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755440" y="5594040"/>
              <a:ext cx="228600" cy="75960"/>
              <a:chOff x="2755440" y="5594040"/>
              <a:chExt cx="228600" cy="75960"/>
            </a:xfrm>
          </p:grpSpPr>
          <p:sp>
            <p:nvSpPr>
              <p:cNvPr id="746" name=""/>
              <p:cNvSpPr/>
              <p:nvPr/>
            </p:nvSpPr>
            <p:spPr>
              <a:xfrm rot="5400000">
                <a:off x="290772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5400000">
                <a:off x="275544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04760" y="6394320"/>
              <a:ext cx="228600" cy="75960"/>
              <a:chOff x="1904760" y="6394320"/>
              <a:chExt cx="228600" cy="75960"/>
            </a:xfrm>
          </p:grpSpPr>
          <p:sp>
            <p:nvSpPr>
              <p:cNvPr id="749" name=""/>
              <p:cNvSpPr/>
              <p:nvPr/>
            </p:nvSpPr>
            <p:spPr>
              <a:xfrm rot="5400000">
                <a:off x="2057040" y="63939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1904760" y="6394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1942920" y="5175360"/>
              <a:ext cx="228600" cy="75960"/>
              <a:chOff x="1942920" y="5175360"/>
              <a:chExt cx="228600" cy="75960"/>
            </a:xfrm>
          </p:grpSpPr>
          <p:sp>
            <p:nvSpPr>
              <p:cNvPr id="752" name=""/>
              <p:cNvSpPr/>
              <p:nvPr/>
            </p:nvSpPr>
            <p:spPr>
              <a:xfrm rot="5400000">
                <a:off x="20952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194292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1790640" y="6127560"/>
              <a:ext cx="76320" cy="227880"/>
              <a:chOff x="1790640" y="6127560"/>
              <a:chExt cx="76320" cy="227880"/>
            </a:xfrm>
          </p:grpSpPr>
          <p:sp>
            <p:nvSpPr>
              <p:cNvPr id="755" name=""/>
              <p:cNvSpPr/>
              <p:nvPr/>
            </p:nvSpPr>
            <p:spPr>
              <a:xfrm>
                <a:off x="1790640" y="6127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0640" y="627984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2171880" y="6127560"/>
              <a:ext cx="75960" cy="227880"/>
              <a:chOff x="2171880" y="6127560"/>
              <a:chExt cx="75960" cy="227880"/>
            </a:xfrm>
          </p:grpSpPr>
          <p:sp>
            <p:nvSpPr>
              <p:cNvPr id="758" name=""/>
              <p:cNvSpPr/>
              <p:nvPr/>
            </p:nvSpPr>
            <p:spPr>
              <a:xfrm>
                <a:off x="2171880" y="61275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171880" y="62798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130400" y="5175360"/>
              <a:ext cx="228600" cy="75960"/>
              <a:chOff x="1130400" y="5175360"/>
              <a:chExt cx="228600" cy="75960"/>
            </a:xfrm>
          </p:grpSpPr>
          <p:sp>
            <p:nvSpPr>
              <p:cNvPr id="761" name=""/>
              <p:cNvSpPr/>
              <p:nvPr/>
            </p:nvSpPr>
            <p:spPr>
              <a:xfrm flipH="1" rot="16200000">
                <a:off x="1130400" y="5175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rot="16200000">
                <a:off x="1282680" y="51753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066680" y="5328000"/>
              <a:ext cx="76320" cy="227880"/>
              <a:chOff x="1066680" y="5328000"/>
              <a:chExt cx="76320" cy="227880"/>
            </a:xfrm>
          </p:grpSpPr>
          <p:sp>
            <p:nvSpPr>
              <p:cNvPr id="764" name=""/>
              <p:cNvSpPr/>
              <p:nvPr/>
            </p:nvSpPr>
            <p:spPr>
              <a:xfrm flipH="1" rot="10800000">
                <a:off x="1066680" y="54799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0800000">
                <a:off x="1066680" y="5328000"/>
                <a:ext cx="7632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1130400" y="5594040"/>
              <a:ext cx="228600" cy="75960"/>
              <a:chOff x="1130400" y="5594040"/>
              <a:chExt cx="228600" cy="75960"/>
            </a:xfrm>
          </p:grpSpPr>
          <p:sp>
            <p:nvSpPr>
              <p:cNvPr id="767" name=""/>
              <p:cNvSpPr/>
              <p:nvPr/>
            </p:nvSpPr>
            <p:spPr>
              <a:xfrm flipH="1" rot="16200000">
                <a:off x="1130400" y="5593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6200000">
                <a:off x="1282680" y="5594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"/>
          <p:cNvSpPr/>
          <p:nvPr/>
        </p:nvSpPr>
        <p:spPr>
          <a:xfrm>
            <a:off x="1689120" y="591192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6364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95280" y="3691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 Check, all the atoms has octet, C has no octet? Use one of the lone pair on the O to form double bond with th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7093080" y="5013360"/>
            <a:ext cx="1790640" cy="1625040"/>
            <a:chOff x="7093080" y="5013360"/>
            <a:chExt cx="1790640" cy="162504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rcRect l="9686" t="2498" r="8752" b="0"/>
            <a:stretch/>
          </p:blipFill>
          <p:spPr>
            <a:xfrm>
              <a:off x="7131240" y="5013360"/>
              <a:ext cx="175248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7854840" y="6410160"/>
              <a:ext cx="3049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093080" y="5470200"/>
              <a:ext cx="533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60360" y="374760"/>
            <a:ext cx="88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5 p382: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rite the Lewis structure of carbonate ion (C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763640" y="4869000"/>
            <a:ext cx="863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50864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00360" y="4941720"/>
            <a:ext cx="358920" cy="43200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2760" y="509904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68360" y="530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763520" y="5280120"/>
            <a:ext cx="2018520" cy="1272600"/>
            <a:chOff x="4763520" y="5280120"/>
            <a:chExt cx="2018520" cy="1272600"/>
          </a:xfrm>
        </p:grpSpPr>
        <p:sp>
          <p:nvSpPr>
            <p:cNvPr id="783" name=""/>
            <p:cNvSpPr/>
            <p:nvPr/>
          </p:nvSpPr>
          <p:spPr>
            <a:xfrm>
              <a:off x="47635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576040" y="5280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3720" y="5280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552280" y="6093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5111640" y="5500800"/>
            <a:ext cx="1295280" cy="621360"/>
            <a:chOff x="5111640" y="5500800"/>
            <a:chExt cx="1295280" cy="621360"/>
          </a:xfrm>
        </p:grpSpPr>
        <p:sp>
          <p:nvSpPr>
            <p:cNvPr id="788" name=""/>
            <p:cNvSpPr/>
            <p:nvPr/>
          </p:nvSpPr>
          <p:spPr>
            <a:xfrm>
              <a:off x="511164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49720" y="5500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746680" y="5665320"/>
              <a:ext cx="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776840" y="5248440"/>
            <a:ext cx="1980360" cy="1294920"/>
            <a:chOff x="4776840" y="5248440"/>
            <a:chExt cx="1980360" cy="1294920"/>
          </a:xfrm>
        </p:grpSpPr>
        <p:grpSp>
          <p:nvGrpSpPr>
            <p:cNvPr id="792" name=""/>
            <p:cNvGrpSpPr/>
            <p:nvPr/>
          </p:nvGrpSpPr>
          <p:grpSpPr>
            <a:xfrm>
              <a:off x="6465960" y="5248440"/>
              <a:ext cx="227880" cy="75960"/>
              <a:chOff x="6465960" y="5248440"/>
              <a:chExt cx="227880" cy="75960"/>
            </a:xfrm>
          </p:grpSpPr>
          <p:sp>
            <p:nvSpPr>
              <p:cNvPr id="793" name=""/>
              <p:cNvSpPr/>
              <p:nvPr/>
            </p:nvSpPr>
            <p:spPr>
              <a:xfrm rot="5400000">
                <a:off x="661788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5400000">
                <a:off x="646560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681240" y="5401080"/>
              <a:ext cx="75960" cy="227880"/>
              <a:chOff x="6681240" y="5401080"/>
              <a:chExt cx="75960" cy="227880"/>
            </a:xfrm>
          </p:grpSpPr>
          <p:sp>
            <p:nvSpPr>
              <p:cNvPr id="796" name=""/>
              <p:cNvSpPr/>
              <p:nvPr/>
            </p:nvSpPr>
            <p:spPr>
              <a:xfrm rot="10800000">
                <a:off x="668124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668124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465960" y="5667120"/>
              <a:ext cx="227880" cy="75960"/>
              <a:chOff x="6465960" y="5667120"/>
              <a:chExt cx="227880" cy="75960"/>
            </a:xfrm>
          </p:grpSpPr>
          <p:sp>
            <p:nvSpPr>
              <p:cNvPr id="799" name=""/>
              <p:cNvSpPr/>
              <p:nvPr/>
            </p:nvSpPr>
            <p:spPr>
              <a:xfrm rot="5400000">
                <a:off x="661788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5400000">
                <a:off x="646560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5615280" y="6467400"/>
              <a:ext cx="227880" cy="75960"/>
              <a:chOff x="5615280" y="6467400"/>
              <a:chExt cx="227880" cy="75960"/>
            </a:xfrm>
          </p:grpSpPr>
          <p:sp>
            <p:nvSpPr>
              <p:cNvPr id="802" name=""/>
              <p:cNvSpPr/>
              <p:nvPr/>
            </p:nvSpPr>
            <p:spPr>
              <a:xfrm rot="5400000">
                <a:off x="5767200" y="6467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400000">
                <a:off x="5614920" y="646740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653440" y="5248440"/>
              <a:ext cx="227880" cy="75960"/>
              <a:chOff x="5653440" y="5248440"/>
              <a:chExt cx="227880" cy="75960"/>
            </a:xfrm>
          </p:grpSpPr>
          <p:sp>
            <p:nvSpPr>
              <p:cNvPr id="805" name=""/>
              <p:cNvSpPr/>
              <p:nvPr/>
            </p:nvSpPr>
            <p:spPr>
              <a:xfrm rot="5400000">
                <a:off x="580536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5400000">
                <a:off x="565308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6200640"/>
              <a:ext cx="75960" cy="227880"/>
              <a:chOff x="5500440" y="6200640"/>
              <a:chExt cx="75960" cy="227880"/>
            </a:xfrm>
          </p:grpSpPr>
          <p:sp>
            <p:nvSpPr>
              <p:cNvPr id="808" name=""/>
              <p:cNvSpPr/>
              <p:nvPr/>
            </p:nvSpPr>
            <p:spPr>
              <a:xfrm>
                <a:off x="5500440" y="62006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63529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881680" y="6200640"/>
              <a:ext cx="75600" cy="227880"/>
              <a:chOff x="5881680" y="6200640"/>
              <a:chExt cx="75600" cy="227880"/>
            </a:xfrm>
          </p:grpSpPr>
          <p:sp>
            <p:nvSpPr>
              <p:cNvPr id="811" name=""/>
              <p:cNvSpPr/>
              <p:nvPr/>
            </p:nvSpPr>
            <p:spPr>
              <a:xfrm>
                <a:off x="5881680" y="6200640"/>
                <a:ext cx="75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81680" y="6352920"/>
                <a:ext cx="7560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840200" y="5248440"/>
              <a:ext cx="227880" cy="75960"/>
              <a:chOff x="4840200" y="5248440"/>
              <a:chExt cx="227880" cy="75960"/>
            </a:xfrm>
          </p:grpSpPr>
          <p:sp>
            <p:nvSpPr>
              <p:cNvPr id="814" name=""/>
              <p:cNvSpPr/>
              <p:nvPr/>
            </p:nvSpPr>
            <p:spPr>
              <a:xfrm flipH="1" rot="16200000">
                <a:off x="4839840" y="5248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6200000">
                <a:off x="4992120" y="524844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776840" y="5401080"/>
              <a:ext cx="75960" cy="227880"/>
              <a:chOff x="4776840" y="5401080"/>
              <a:chExt cx="75960" cy="227880"/>
            </a:xfrm>
          </p:grpSpPr>
          <p:sp>
            <p:nvSpPr>
              <p:cNvPr id="817" name=""/>
              <p:cNvSpPr/>
              <p:nvPr/>
            </p:nvSpPr>
            <p:spPr>
              <a:xfrm flipH="1" rot="10800000">
                <a:off x="4776480" y="55530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0800000">
                <a:off x="4776480" y="540108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4840200" y="5667120"/>
              <a:ext cx="227880" cy="75960"/>
              <a:chOff x="4840200" y="5667120"/>
              <a:chExt cx="227880" cy="75960"/>
            </a:xfrm>
          </p:grpSpPr>
          <p:sp>
            <p:nvSpPr>
              <p:cNvPr id="820" name=""/>
              <p:cNvSpPr/>
              <p:nvPr/>
            </p:nvSpPr>
            <p:spPr>
              <a:xfrm flipH="1" rot="16200000">
                <a:off x="4839840" y="5667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6200000">
                <a:off x="4992120" y="56671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5473800" y="4941720"/>
            <a:ext cx="86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0360" y="5373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4797360"/>
            <a:ext cx="504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48000" y="59500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7889-A948-47E9-B83F-2BF0BCB8BB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Content Placeholder 1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4 p382: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Write the Lewis structure for ni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acid (HN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) in which the three O atoms are bond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central 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79280" y="1609560"/>
            <a:ext cx="84963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ut N in center ,surrounded by 3O atoms , H bonded to one of the 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nt the valence electrons  5 + (3 x 6) +1 = 24 valence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aw single bonds betw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O atoms and O and H complete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et on O atoms. Use all the valence e (step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, all the atoms has octet, N has no octet? Use one of the lone pair on the O to form double bond with th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84360" y="5654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3200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84360" y="62308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835280" y="5661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1636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609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68360" y="5878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19640" y="56624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19640" y="6094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24000" y="566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83672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5950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16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8108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24000" y="6094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629080" y="66708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771640" y="6669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84360" y="6526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8436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80000" y="5646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64000" y="5878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908000" y="5516640"/>
            <a:ext cx="432000" cy="360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266560" y="58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588000" y="5511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6000" y="55180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588000" y="60879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38920" y="55180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2000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04000" y="5951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72360" y="573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52328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380360" y="55198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2328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38036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0360" y="5662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0360" y="58071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020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020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08472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227640" y="595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32720" y="6527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75640" y="652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88000" y="63831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588000" y="62388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883640" y="55040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667640" y="573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6370200" y="56624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27640" y="630864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0DDB-27DC-4410-B8A0-AE063FB60F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9.7 Formal Charge and Lewi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show how the charge distributed in a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ormal charg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difference between the number of valence electrons in an isolated atom and the number of electrons assigned to that atom in a Lewis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3"/>
          <p:cNvGrpSpPr/>
          <p:nvPr/>
        </p:nvGrpSpPr>
        <p:grpSpPr>
          <a:xfrm>
            <a:off x="246240" y="3397320"/>
            <a:ext cx="8691480" cy="1191240"/>
            <a:chOff x="246240" y="3397320"/>
            <a:chExt cx="8691480" cy="1191240"/>
          </a:xfrm>
        </p:grpSpPr>
        <p:grpSp>
          <p:nvGrpSpPr>
            <p:cNvPr id="883" name="Group 37"/>
            <p:cNvGrpSpPr/>
            <p:nvPr/>
          </p:nvGrpSpPr>
          <p:grpSpPr>
            <a:xfrm>
              <a:off x="246240" y="3397320"/>
              <a:ext cx="2134800" cy="1191240"/>
              <a:chOff x="246240" y="3397320"/>
              <a:chExt cx="2134800" cy="1191240"/>
            </a:xfrm>
          </p:grpSpPr>
          <p:sp>
            <p:nvSpPr>
              <p:cNvPr id="884" name="Text Box 23"/>
              <p:cNvSpPr/>
              <p:nvPr/>
            </p:nvSpPr>
            <p:spPr>
              <a:xfrm>
                <a:off x="246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ormal charge on an atom in a Lewis struc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27"/>
              <p:cNvSpPr/>
              <p:nvPr/>
            </p:nvSpPr>
            <p:spPr>
              <a:xfrm>
                <a:off x="2069280" y="3824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Group 40"/>
            <p:cNvGrpSpPr/>
            <p:nvPr/>
          </p:nvGrpSpPr>
          <p:grpSpPr>
            <a:xfrm>
              <a:off x="6558480" y="3549600"/>
              <a:ext cx="2379240" cy="1008360"/>
              <a:chOff x="6558480" y="3549600"/>
              <a:chExt cx="2379240" cy="1008360"/>
            </a:xfrm>
          </p:grpSpPr>
          <p:grpSp>
            <p:nvGrpSpPr>
              <p:cNvPr id="887" name="Group 33"/>
              <p:cNvGrpSpPr/>
              <p:nvPr/>
            </p:nvGrpSpPr>
            <p:grpSpPr>
              <a:xfrm>
                <a:off x="6558480" y="3595680"/>
                <a:ext cx="340920" cy="825120"/>
                <a:chOff x="6558480" y="3595680"/>
                <a:chExt cx="340920" cy="825120"/>
              </a:xfrm>
            </p:grpSpPr>
            <p:sp>
              <p:nvSpPr>
                <p:cNvPr id="888" name="Text Box 28"/>
                <p:cNvSpPr/>
                <p:nvPr/>
              </p:nvSpPr>
              <p:spPr>
                <a:xfrm>
                  <a:off x="6558480" y="359568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Text Box 29"/>
                <p:cNvSpPr/>
                <p:nvPr/>
              </p:nvSpPr>
              <p:spPr>
                <a:xfrm>
                  <a:off x="6576840" y="405252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30"/>
                <p:cNvSpPr/>
                <p:nvPr/>
              </p:nvSpPr>
              <p:spPr>
                <a:xfrm>
                  <a:off x="6594480" y="40525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Group 34"/>
              <p:cNvGrpSpPr/>
              <p:nvPr/>
            </p:nvGrpSpPr>
            <p:grpSpPr>
              <a:xfrm>
                <a:off x="6878880" y="3549600"/>
                <a:ext cx="2058840" cy="1008360"/>
                <a:chOff x="6878880" y="3549600"/>
                <a:chExt cx="2058840" cy="1008360"/>
              </a:xfrm>
            </p:grpSpPr>
            <p:sp>
              <p:nvSpPr>
                <p:cNvPr id="892" name="Text Box 26"/>
                <p:cNvSpPr/>
                <p:nvPr/>
              </p:nvSpPr>
              <p:spPr>
                <a:xfrm>
                  <a:off x="7104240" y="3549600"/>
                  <a:ext cx="18288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total number of bonding electro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31"/>
                <p:cNvSpPr/>
                <p:nvPr/>
              </p:nvSpPr>
              <p:spPr>
                <a:xfrm>
                  <a:off x="6878880" y="3549600"/>
                  <a:ext cx="607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( 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32"/>
                <p:cNvSpPr/>
                <p:nvPr/>
              </p:nvSpPr>
              <p:spPr>
                <a:xfrm>
                  <a:off x="8528400" y="3549600"/>
                  <a:ext cx="409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38"/>
            <p:cNvGrpSpPr/>
            <p:nvPr/>
          </p:nvGrpSpPr>
          <p:grpSpPr>
            <a:xfrm>
              <a:off x="2532240" y="3397320"/>
              <a:ext cx="1856520" cy="1191240"/>
              <a:chOff x="2532240" y="3397320"/>
              <a:chExt cx="1856520" cy="1191240"/>
            </a:xfrm>
          </p:grpSpPr>
          <p:sp>
            <p:nvSpPr>
              <p:cNvPr id="896" name="Text Box 24"/>
              <p:cNvSpPr/>
              <p:nvPr/>
            </p:nvSpPr>
            <p:spPr>
              <a:xfrm>
                <a:off x="2532240" y="3397320"/>
                <a:ext cx="182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valence electrons in the free at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407700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39"/>
            <p:cNvGrpSpPr/>
            <p:nvPr/>
          </p:nvGrpSpPr>
          <p:grpSpPr>
            <a:xfrm>
              <a:off x="4437360" y="3549600"/>
              <a:ext cx="2096280" cy="916920"/>
              <a:chOff x="4437360" y="3549600"/>
              <a:chExt cx="2096280" cy="916920"/>
            </a:xfrm>
          </p:grpSpPr>
          <p:sp>
            <p:nvSpPr>
              <p:cNvPr id="899" name="Text Box 25"/>
              <p:cNvSpPr/>
              <p:nvPr/>
            </p:nvSpPr>
            <p:spPr>
              <a:xfrm>
                <a:off x="4437360" y="3549600"/>
                <a:ext cx="1828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otal number of nonbonding electr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36"/>
              <p:cNvSpPr/>
              <p:nvPr/>
            </p:nvSpPr>
            <p:spPr>
              <a:xfrm>
                <a:off x="6221880" y="37623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79280" y="3357720"/>
            <a:ext cx="8785440" cy="1295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03" name=""/>
          <p:cNvSpPr/>
          <p:nvPr/>
        </p:nvSpPr>
        <p:spPr>
          <a:xfrm>
            <a:off x="590400" y="5013360"/>
            <a:ext cx="8229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0CAA-7546-45A3-9357-8CAD9C78E6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95280" y="404640"/>
            <a:ext cx="777708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zone molecule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wis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l Charg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708360" y="119700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 – O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068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84720" y="112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635280" y="1557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35280" y="1773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211640" y="220680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995640" y="220680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72436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45164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080" y="1197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308720" y="2205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524720" y="220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8360" y="2708280"/>
            <a:ext cx="3456000" cy="1150920"/>
          </a:xfrm>
          <a:prstGeom prst="wedgeRectCallout">
            <a:avLst>
              <a:gd name="adj1" fmla="val 49634"/>
              <a:gd name="adj2" fmla="val -996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6 –(½x2) =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56000" y="4005360"/>
            <a:ext cx="3456000" cy="1150920"/>
          </a:xfrm>
          <a:prstGeom prst="wedgeRectCallout">
            <a:avLst>
              <a:gd name="adj1" fmla="val 37324"/>
              <a:gd name="adj2" fmla="val -21331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2 –(½x6) =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651640" y="2781360"/>
            <a:ext cx="3456000" cy="1150920"/>
          </a:xfrm>
          <a:prstGeom prst="wedgeRectCallout">
            <a:avLst>
              <a:gd name="adj1" fmla="val 12287"/>
              <a:gd name="adj2" fmla="val -1040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al charge = 6 – 4 –(½x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836720" y="5587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197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41308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63640" y="59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63640" y="616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124000" y="659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41964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63528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558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797440" y="5587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437080" y="659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53080" y="659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2920" y="5805360"/>
            <a:ext cx="1260360" cy="648000"/>
          </a:xfrm>
          <a:prstGeom prst="rightArrow">
            <a:avLst>
              <a:gd name="adj1" fmla="val 50000"/>
              <a:gd name="adj2" fmla="val 486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4005360"/>
            <a:ext cx="2252520" cy="2692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1 +1 = 0   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F56D-B6CA-44C4-B857-F0D0437AB2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95280" y="333360"/>
            <a:ext cx="8424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6 p38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Write the formal charges for the carbonate ion (C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24000" y="20606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9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43280" y="4083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45080" y="4875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843280" y="48751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9564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168720" y="4586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38436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447640" y="5162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4656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6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84328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43280" y="4435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12256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266920" y="4795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906560" y="5084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6560" y="522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6692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92256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065480" y="4869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544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067280" y="54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28148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282920" y="5157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690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0800000">
            <a:off x="4282560" y="4078440"/>
            <a:ext cx="289080" cy="208728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280"/>
              <a:gd name="textAreaBottom" fmla="*/ 20005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427640" y="36511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79280" y="4581360"/>
            <a:ext cx="1366920" cy="1872000"/>
          </a:xfrm>
          <a:prstGeom prst="wedgeRectCallout">
            <a:avLst>
              <a:gd name="adj1" fmla="val 74504"/>
              <a:gd name="adj2" fmla="val -1446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075280" y="4221000"/>
            <a:ext cx="1366920" cy="1872000"/>
          </a:xfrm>
          <a:prstGeom prst="wedgeRectCallout">
            <a:avLst>
              <a:gd name="adj1" fmla="val -101569"/>
              <a:gd name="adj2" fmla="val 9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80000" y="1844640"/>
            <a:ext cx="1366560" cy="1871640"/>
          </a:xfrm>
          <a:prstGeom prst="wedgeRectCallout">
            <a:avLst>
              <a:gd name="adj1" fmla="val -92740"/>
              <a:gd name="adj2" fmla="val 723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411280" y="6237360"/>
            <a:ext cx="2664000" cy="504720"/>
          </a:xfrm>
          <a:prstGeom prst="wedgeRectCallout">
            <a:avLst>
              <a:gd name="adj1" fmla="val -25504"/>
              <a:gd name="adj2" fmla="val -216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0 –(½x8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8172360" y="2859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2328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596360" y="2570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781164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875280" y="31464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773840" y="2419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384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70920" y="227664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70920" y="24192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50200" y="2779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4560" y="277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3342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3342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0200" y="34275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9456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35020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49312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350200" y="34275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494560" y="34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70912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71056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118200" y="206208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10800000">
            <a:off x="8710200" y="2061720"/>
            <a:ext cx="289080" cy="2087640"/>
          </a:xfrm>
          <a:custGeom>
            <a:avLst/>
            <a:gdLst>
              <a:gd name="textAreaLeft" fmla="*/ 84960 w 289080"/>
              <a:gd name="textAreaRight" fmla="*/ 289080 w 289080"/>
              <a:gd name="textAreaTop" fmla="*/ 86760 h 2087640"/>
              <a:gd name="textAreaBottom" fmla="*/ 20008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0920" y="2060640"/>
            <a:ext cx="11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372360" y="28591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307280" y="28591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084720" y="2492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675640" y="25002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732720" y="4149720"/>
            <a:ext cx="1368360" cy="792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16720" y="5084640"/>
            <a:ext cx="2556000" cy="1681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um of the formal charges of the atoms in a molecule or ion must equal the charge on the molecule or 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 -1 = -2   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E1D9B-D0FA-450C-8B39-3DE6E54B1A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is more than one possible structure for a molecu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ormal charg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lp to decide which structure is the correct one, by applying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wis structure with no formal charge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 with larger formal charges (+2, +3, -2, -3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favour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structures with smaller negative charges, the favourable is one in whic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egative formal charges are on the more electronegative 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16000" y="6308640"/>
            <a:ext cx="6696000" cy="505080"/>
          </a:xfrm>
          <a:prstGeom prst="rightArrow">
            <a:avLst>
              <a:gd name="adj1" fmla="val 50000"/>
              <a:gd name="adj2" fmla="val 3314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012B-800B-43EE-9D4F-74F0AFF15F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395280" y="374760"/>
            <a:ext cx="8604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</a:t>
            </a:r>
            <a:r>
              <a:rPr b="1" lang="ar-SA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9.7 p385:</a:t>
            </a:r>
            <a:r>
              <a:rPr b="0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the most likely Lewis structure for formaldehyde (CH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8360" y="1844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1844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wo possible structur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33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– C = O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10200" y="328464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19640" y="2924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19640" y="37958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796000" y="3357720"/>
            <a:ext cx="28872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24360" y="3789360"/>
            <a:ext cx="287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76364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4000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84360" y="3357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948360" y="328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093080" y="3286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9308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4836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79280" y="4076640"/>
            <a:ext cx="1366920" cy="1871640"/>
          </a:xfrm>
          <a:prstGeom prst="wedgeRectCallout">
            <a:avLst>
              <a:gd name="adj1" fmla="val 48953"/>
              <a:gd name="adj2" fmla="val -61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2000" y="4149720"/>
            <a:ext cx="1366560" cy="1871640"/>
          </a:xfrm>
          <a:prstGeom prst="wedgeRectCallout">
            <a:avLst>
              <a:gd name="adj1" fmla="val -32462"/>
              <a:gd name="adj2" fmla="val -647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835280" y="4076640"/>
            <a:ext cx="1366560" cy="1871640"/>
          </a:xfrm>
          <a:prstGeom prst="wedgeRectCallout">
            <a:avLst>
              <a:gd name="adj1" fmla="val -7143"/>
              <a:gd name="adj2" fmla="val -6068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596360" y="3789360"/>
            <a:ext cx="1366560" cy="1871640"/>
          </a:xfrm>
          <a:prstGeom prst="wedgeRectCallout">
            <a:avLst>
              <a:gd name="adj1" fmla="val -76481"/>
              <a:gd name="adj2" fmla="val -56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½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54764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268360" y="2781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7928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72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9280" y="60627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Structure (b) has no formal charges → THUS: it is the most likely structure of formaldehy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5AE2-1C63-499F-AA18-B8FC813EAC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9 Chemical Bonding 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1 Lewis dot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2 The ionic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4 The covalent b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5 Electronegativ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6  Writing Lewis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7 formal charge and Lewis stru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8 the concept of reso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9.9 the exception of octet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21AC-5A65-4BAB-BDA6-104A7B87FD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 </a:t>
            </a:r>
            <a:r>
              <a:rPr b="1" lang="ar-SA" sz="3200" spc="-1" strike="noStrike" u="sng">
                <a:solidFill>
                  <a:srgbClr val="00007d"/>
                </a:solidFill>
                <a:uFillTx/>
                <a:latin typeface="Comic Sans MS"/>
              </a:rPr>
              <a:t>الرن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055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wis struct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68360" y="2455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28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44720" y="23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95280" y="3032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71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55640" y="3465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50920" y="2455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6692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21164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429080" y="2455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068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84720" y="3463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6720" y="511956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 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57080" y="5048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7308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27640" y="5518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27640" y="5734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00000" y="612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4360" y="612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979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19564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14036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7800" y="51195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997440" y="612792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213080" y="612792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124000" y="395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16240"/>
            <a:ext cx="392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nd length of O-O &gt; O=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: experiments showed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wo bonds are of equa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both structures represents the same molecul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762D-24AB-4EBB-8296-488EF20389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wis structure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223992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ar-SA" sz="7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= 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28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044720" y="21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95280" y="260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" y="28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71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5640" y="324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50920" y="22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26692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21164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429080" y="2239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068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284720" y="32479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6720" y="504828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=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7080" y="4976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973080" y="497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4000" y="540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4000" y="562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900000" y="6058080"/>
            <a:ext cx="1447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84360" y="60580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79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19564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14036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57800" y="5048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997440" y="605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13080" y="605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916360" y="3716280"/>
            <a:ext cx="60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Resonance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2086920" y="3823920"/>
            <a:ext cx="1224000" cy="576360"/>
          </a:xfrm>
          <a:prstGeom prst="leftRightArrow">
            <a:avLst>
              <a:gd name="adj1" fmla="val 50000"/>
              <a:gd name="adj2" fmla="val 4227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1EA5-08A7-423F-B147-A7C750DFE6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9.8 The Concept of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Resonanc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ans the use of two or more Lewis structures to represent a particul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the carbonate 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(CO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What are the resonance structures of benzene molecule (C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61000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772240" y="36241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25080" y="2709720"/>
            <a:ext cx="2448000" cy="1475640"/>
            <a:chOff x="325080" y="2709720"/>
            <a:chExt cx="2448000" cy="1475640"/>
          </a:xfrm>
        </p:grpSpPr>
        <p:grpSp>
          <p:nvGrpSpPr>
            <p:cNvPr id="1093" name=""/>
            <p:cNvGrpSpPr/>
            <p:nvPr/>
          </p:nvGrpSpPr>
          <p:grpSpPr>
            <a:xfrm>
              <a:off x="514080" y="2887560"/>
              <a:ext cx="2044080" cy="1297800"/>
              <a:chOff x="514080" y="2887560"/>
              <a:chExt cx="2044080" cy="1297800"/>
            </a:xfrm>
          </p:grpSpPr>
          <p:grpSp>
            <p:nvGrpSpPr>
              <p:cNvPr id="1094" name=""/>
              <p:cNvGrpSpPr/>
              <p:nvPr/>
            </p:nvGrpSpPr>
            <p:grpSpPr>
              <a:xfrm>
                <a:off x="525600" y="2912760"/>
                <a:ext cx="2018160" cy="1272600"/>
                <a:chOff x="525600" y="2912760"/>
                <a:chExt cx="2018160" cy="12726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2560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132480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21254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131436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"/>
              <p:cNvSpPr/>
              <p:nvPr/>
            </p:nvSpPr>
            <p:spPr>
              <a:xfrm>
                <a:off x="87408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71216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148356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2" name=""/>
              <p:cNvGrpSpPr/>
              <p:nvPr/>
            </p:nvGrpSpPr>
            <p:grpSpPr>
              <a:xfrm>
                <a:off x="2228400" y="2887560"/>
                <a:ext cx="227880" cy="76320"/>
                <a:chOff x="2228400" y="2887560"/>
                <a:chExt cx="227880" cy="76320"/>
              </a:xfrm>
            </p:grpSpPr>
            <p:sp>
              <p:nvSpPr>
                <p:cNvPr id="1103" name=""/>
                <p:cNvSpPr/>
                <p:nvPr/>
              </p:nvSpPr>
              <p:spPr>
                <a:xfrm rot="5400000">
                  <a:off x="237996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5400000">
                  <a:off x="222804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5" name=""/>
              <p:cNvGrpSpPr/>
              <p:nvPr/>
            </p:nvGrpSpPr>
            <p:grpSpPr>
              <a:xfrm>
                <a:off x="2482200" y="3027240"/>
                <a:ext cx="75960" cy="228600"/>
                <a:chOff x="2482200" y="3027240"/>
                <a:chExt cx="75960" cy="22860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48220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8220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"/>
              <p:cNvGrpSpPr/>
              <p:nvPr/>
            </p:nvGrpSpPr>
            <p:grpSpPr>
              <a:xfrm>
                <a:off x="2228400" y="3306600"/>
                <a:ext cx="227880" cy="76320"/>
                <a:chOff x="2228400" y="3306600"/>
                <a:chExt cx="227880" cy="76320"/>
              </a:xfrm>
            </p:grpSpPr>
            <p:sp>
              <p:nvSpPr>
                <p:cNvPr id="1109" name=""/>
                <p:cNvSpPr/>
                <p:nvPr/>
              </p:nvSpPr>
              <p:spPr>
                <a:xfrm rot="5400000">
                  <a:off x="237996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5400000">
                  <a:off x="222804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1288440" y="3840120"/>
                <a:ext cx="75600" cy="228600"/>
                <a:chOff x="1288440" y="3840120"/>
                <a:chExt cx="75600" cy="22860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28844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28844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1669320" y="3840120"/>
                <a:ext cx="75960" cy="228600"/>
                <a:chOff x="1669320" y="3840120"/>
                <a:chExt cx="75960" cy="22860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16693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6693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02640" y="2887560"/>
                <a:ext cx="227880" cy="76320"/>
                <a:chOff x="602640" y="2887560"/>
                <a:chExt cx="227880" cy="76320"/>
              </a:xfrm>
            </p:grpSpPr>
            <p:sp>
              <p:nvSpPr>
                <p:cNvPr id="1118" name=""/>
                <p:cNvSpPr/>
                <p:nvPr/>
              </p:nvSpPr>
              <p:spPr>
                <a:xfrm flipH="1" rot="16200000">
                  <a:off x="601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flipH="1" rot="16200000">
                  <a:off x="7545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514080" y="3026880"/>
                <a:ext cx="75600" cy="228600"/>
                <a:chOff x="514080" y="3026880"/>
                <a:chExt cx="75600" cy="228600"/>
              </a:xfrm>
            </p:grpSpPr>
            <p:sp>
              <p:nvSpPr>
                <p:cNvPr id="1121" name=""/>
                <p:cNvSpPr/>
                <p:nvPr/>
              </p:nvSpPr>
              <p:spPr>
                <a:xfrm flipH="1" rot="10800000">
                  <a:off x="514080" y="317916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H="1" rot="10800000">
                  <a:off x="514080" y="3026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602640" y="3306600"/>
                <a:ext cx="227880" cy="76320"/>
                <a:chOff x="602640" y="3306600"/>
                <a:chExt cx="227880" cy="7632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rot="16200000">
                  <a:off x="601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 rot="16200000">
                  <a:off x="7545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"/>
              <p:cNvSpPr/>
              <p:nvPr/>
            </p:nvSpPr>
            <p:spPr>
              <a:xfrm flipV="1">
                <a:off x="155520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3250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012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688920" y="2709720"/>
            <a:ext cx="2233800" cy="1653480"/>
            <a:chOff x="3688920" y="2709720"/>
            <a:chExt cx="2233800" cy="1653480"/>
          </a:xfrm>
        </p:grpSpPr>
        <p:grpSp>
          <p:nvGrpSpPr>
            <p:cNvPr id="1130" name=""/>
            <p:cNvGrpSpPr/>
            <p:nvPr/>
          </p:nvGrpSpPr>
          <p:grpSpPr>
            <a:xfrm>
              <a:off x="3688920" y="2887560"/>
              <a:ext cx="2031840" cy="1297800"/>
              <a:chOff x="3688920" y="2887560"/>
              <a:chExt cx="2031840" cy="129780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4565880" y="4093920"/>
                <a:ext cx="227880" cy="76320"/>
                <a:chOff x="4565880" y="4093920"/>
                <a:chExt cx="227880" cy="76320"/>
              </a:xfrm>
            </p:grpSpPr>
            <p:sp>
              <p:nvSpPr>
                <p:cNvPr id="1132" name=""/>
                <p:cNvSpPr/>
                <p:nvPr/>
              </p:nvSpPr>
              <p:spPr>
                <a:xfrm rot="5400000">
                  <a:off x="471744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5400000">
                  <a:off x="4565520" y="409428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3688920" y="2912760"/>
                <a:ext cx="2018520" cy="1272600"/>
                <a:chOff x="3688920" y="2912760"/>
                <a:chExt cx="2018520" cy="12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36889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884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912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776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"/>
              <p:cNvSpPr/>
              <p:nvPr/>
            </p:nvSpPr>
            <p:spPr>
              <a:xfrm>
                <a:off x="4037040" y="311436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875120" y="313992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469728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5391360" y="2887560"/>
                <a:ext cx="227880" cy="76320"/>
                <a:chOff x="5391360" y="2887560"/>
                <a:chExt cx="227880" cy="76320"/>
              </a:xfrm>
            </p:grpSpPr>
            <p:sp>
              <p:nvSpPr>
                <p:cNvPr id="1143" name=""/>
                <p:cNvSpPr/>
                <p:nvPr/>
              </p:nvSpPr>
              <p:spPr>
                <a:xfrm rot="5400000">
                  <a:off x="554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5400000">
                  <a:off x="539100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645160" y="3027240"/>
                <a:ext cx="75600" cy="228600"/>
                <a:chOff x="5645160" y="3027240"/>
                <a:chExt cx="75600" cy="2286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645160" y="302724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645160" y="31798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5391360" y="3306600"/>
                <a:ext cx="227880" cy="76320"/>
                <a:chOff x="5391360" y="3306600"/>
                <a:chExt cx="227880" cy="76320"/>
              </a:xfrm>
            </p:grpSpPr>
            <p:sp>
              <p:nvSpPr>
                <p:cNvPr id="1149" name=""/>
                <p:cNvSpPr/>
                <p:nvPr/>
              </p:nvSpPr>
              <p:spPr>
                <a:xfrm rot="5400000">
                  <a:off x="554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5400000">
                  <a:off x="539100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4451040" y="3840120"/>
                <a:ext cx="75960" cy="228600"/>
                <a:chOff x="4451040" y="3840120"/>
                <a:chExt cx="75960" cy="2286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445104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5104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4832280" y="3840120"/>
                <a:ext cx="75600" cy="228600"/>
                <a:chOff x="4832280" y="3840120"/>
                <a:chExt cx="75600" cy="228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832280" y="384012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32280" y="399276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765240" y="2887560"/>
                <a:ext cx="227880" cy="76320"/>
                <a:chOff x="3765240" y="2887560"/>
                <a:chExt cx="227880" cy="76320"/>
              </a:xfrm>
            </p:grpSpPr>
            <p:sp>
              <p:nvSpPr>
                <p:cNvPr id="1158" name=""/>
                <p:cNvSpPr/>
                <p:nvPr/>
              </p:nvSpPr>
              <p:spPr>
                <a:xfrm flipH="1" rot="16200000">
                  <a:off x="37645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 rot="16200000">
                  <a:off x="3917160" y="288792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3765240" y="3306600"/>
                <a:ext cx="227880" cy="76320"/>
                <a:chOff x="3765240" y="3306600"/>
                <a:chExt cx="227880" cy="76320"/>
              </a:xfrm>
            </p:grpSpPr>
            <p:sp>
              <p:nvSpPr>
                <p:cNvPr id="1161" name=""/>
                <p:cNvSpPr/>
                <p:nvPr/>
              </p:nvSpPr>
              <p:spPr>
                <a:xfrm flipH="1" rot="16200000">
                  <a:off x="37645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 rot="16200000">
                  <a:off x="3917160" y="33069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3" name=""/>
              <p:cNvSpPr/>
              <p:nvPr/>
            </p:nvSpPr>
            <p:spPr>
              <a:xfrm>
                <a:off x="4044960" y="31924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563976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9520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6605280" y="2709720"/>
            <a:ext cx="2213280" cy="1653480"/>
            <a:chOff x="6605280" y="2709720"/>
            <a:chExt cx="2213280" cy="1653480"/>
          </a:xfrm>
        </p:grpSpPr>
        <p:grpSp>
          <p:nvGrpSpPr>
            <p:cNvPr id="1167" name=""/>
            <p:cNvGrpSpPr/>
            <p:nvPr/>
          </p:nvGrpSpPr>
          <p:grpSpPr>
            <a:xfrm>
              <a:off x="6786000" y="2887560"/>
              <a:ext cx="2032560" cy="1297800"/>
              <a:chOff x="6786000" y="2887560"/>
              <a:chExt cx="2032560" cy="1297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713360" y="4093920"/>
                <a:ext cx="228600" cy="76320"/>
                <a:chOff x="7713360" y="4093920"/>
                <a:chExt cx="228600" cy="76320"/>
              </a:xfrm>
            </p:grpSpPr>
            <p:sp>
              <p:nvSpPr>
                <p:cNvPr id="1169" name=""/>
                <p:cNvSpPr/>
                <p:nvPr/>
              </p:nvSpPr>
              <p:spPr>
                <a:xfrm flipH="1" rot="16200000">
                  <a:off x="7713360" y="40939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H="1" rot="16200000">
                  <a:off x="7865280" y="4093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6800040" y="2912760"/>
                <a:ext cx="2018520" cy="1272600"/>
                <a:chOff x="6800040" y="2912760"/>
                <a:chExt cx="2018520" cy="1272600"/>
              </a:xfrm>
            </p:grpSpPr>
            <p:sp>
              <p:nvSpPr>
                <p:cNvPr id="1172" name=""/>
                <p:cNvSpPr/>
                <p:nvPr/>
              </p:nvSpPr>
              <p:spPr>
                <a:xfrm flipH="1">
                  <a:off x="84002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7618680" y="291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6800040" y="291276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7611480" y="372564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flipH="1">
                <a:off x="8012880" y="31143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7174800" y="31399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7809840" y="33066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9" name=""/>
              <p:cNvGrpSpPr/>
              <p:nvPr/>
            </p:nvGrpSpPr>
            <p:grpSpPr>
              <a:xfrm>
                <a:off x="6887880" y="2887560"/>
                <a:ext cx="228600" cy="76320"/>
                <a:chOff x="6887880" y="2887560"/>
                <a:chExt cx="228600" cy="76320"/>
              </a:xfrm>
            </p:grpSpPr>
            <p:sp>
              <p:nvSpPr>
                <p:cNvPr id="1180" name=""/>
                <p:cNvSpPr/>
                <p:nvPr/>
              </p:nvSpPr>
              <p:spPr>
                <a:xfrm flipH="1" rot="16200000">
                  <a:off x="688788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 rot="16200000">
                  <a:off x="703980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6786000" y="3027240"/>
                <a:ext cx="75960" cy="228600"/>
                <a:chOff x="6786000" y="3027240"/>
                <a:chExt cx="75960" cy="2286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6785640" y="3027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6785640" y="3179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6887880" y="3306600"/>
                <a:ext cx="228600" cy="76320"/>
                <a:chOff x="6887880" y="3306600"/>
                <a:chExt cx="228600" cy="76320"/>
              </a:xfrm>
            </p:grpSpPr>
            <p:sp>
              <p:nvSpPr>
                <p:cNvPr id="1186" name=""/>
                <p:cNvSpPr/>
                <p:nvPr/>
              </p:nvSpPr>
              <p:spPr>
                <a:xfrm flipH="1" rot="16200000">
                  <a:off x="688788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 rot="16200000">
                  <a:off x="703980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7979760" y="3840120"/>
                <a:ext cx="76320" cy="228600"/>
                <a:chOff x="7979760" y="3840120"/>
                <a:chExt cx="76320" cy="228600"/>
              </a:xfrm>
            </p:grpSpPr>
            <p:sp>
              <p:nvSpPr>
                <p:cNvPr id="1189" name=""/>
                <p:cNvSpPr/>
                <p:nvPr/>
              </p:nvSpPr>
              <p:spPr>
                <a:xfrm flipH="1">
                  <a:off x="7979760" y="38401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7979760" y="39927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7598880" y="3840120"/>
                <a:ext cx="75960" cy="228600"/>
                <a:chOff x="7598880" y="3840120"/>
                <a:chExt cx="75960" cy="228600"/>
              </a:xfrm>
            </p:grpSpPr>
            <p:sp>
              <p:nvSpPr>
                <p:cNvPr id="1192" name=""/>
                <p:cNvSpPr/>
                <p:nvPr/>
              </p:nvSpPr>
              <p:spPr>
                <a:xfrm flipH="1">
                  <a:off x="7598520" y="3840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 flipH="1">
                  <a:off x="7598520" y="39927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513280" y="2887560"/>
                <a:ext cx="228600" cy="76320"/>
                <a:chOff x="8513280" y="2887560"/>
                <a:chExt cx="228600" cy="76320"/>
              </a:xfrm>
            </p:grpSpPr>
            <p:sp>
              <p:nvSpPr>
                <p:cNvPr id="1195" name=""/>
                <p:cNvSpPr/>
                <p:nvPr/>
              </p:nvSpPr>
              <p:spPr>
                <a:xfrm rot="5400000">
                  <a:off x="8665560" y="28875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rot="5400000">
                  <a:off x="8512920" y="28875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8513280" y="3306600"/>
                <a:ext cx="228600" cy="76320"/>
                <a:chOff x="8513280" y="3306600"/>
                <a:chExt cx="228600" cy="76320"/>
              </a:xfrm>
            </p:grpSpPr>
            <p:sp>
              <p:nvSpPr>
                <p:cNvPr id="1198" name=""/>
                <p:cNvSpPr/>
                <p:nvPr/>
              </p:nvSpPr>
              <p:spPr>
                <a:xfrm rot="5400000">
                  <a:off x="8665560" y="3306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rot="5400000">
                  <a:off x="8512920" y="3306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"/>
              <p:cNvSpPr/>
              <p:nvPr/>
            </p:nvSpPr>
            <p:spPr>
              <a:xfrm flipH="1">
                <a:off x="8004960" y="3192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6605280" y="2709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938720" y="3903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250920" y="2637000"/>
            <a:ext cx="8713800" cy="1655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5" descr="370px-Benzene-resonance-structures"/>
          <p:cNvPicPr/>
          <p:nvPr/>
        </p:nvPicPr>
        <p:blipFill>
          <a:blip r:embed="rId1"/>
          <a:srcRect l="0" t="0" r="0" b="47098"/>
          <a:stretch/>
        </p:blipFill>
        <p:spPr>
          <a:xfrm>
            <a:off x="3924360" y="4797360"/>
            <a:ext cx="4248000" cy="17924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3564000" y="4797360"/>
            <a:ext cx="5040360" cy="187164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E137-9B89-4D52-AD71-2A9E7B9708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395280" y="333360"/>
            <a:ext cx="8352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8 p38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three resonance structures for the molecule nitrous oxide, N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O (the atomic arrangement is NNO). Indicate formal charges. Rank th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4000" y="20350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66560" y="2708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= N =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41964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11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20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5420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112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938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33856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33856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19384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50920" y="2421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332000" y="242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92436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2436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2436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41964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41964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03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83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21964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1964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93236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07672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1164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1964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5280" y="270828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  N  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2000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669080" y="29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667640" y="3068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7667640" y="2997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15280" y="2852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515280" y="299736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5964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31528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315280" y="299736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32720" y="3211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87708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30728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56360" y="2467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6720" y="234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114560" y="3500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067280" y="34974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3600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8000" y="4149720"/>
            <a:ext cx="8964720" cy="22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structures show forma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b) is the most important, because the –ve charge is on the more electronegative oxy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ructure (c) is the least important one, because larger formal charge, also the +ve charge is on the more electronegative oxygen atom. </a:t>
            </a:r>
            <a:r>
              <a:rPr b="1" lang="en-GB" sz="2000" spc="-1" strike="noStrike">
                <a:solidFill>
                  <a:srgbClr val="cc3300"/>
                </a:solidFill>
                <a:latin typeface="Comic Sans MS"/>
              </a:rPr>
              <a:t>Arrangement of importance (b) &gt; (a) &gt;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698920" y="2924280"/>
            <a:ext cx="504720" cy="144360"/>
          </a:xfrm>
          <a:prstGeom prst="leftRightArrow">
            <a:avLst>
              <a:gd name="adj1" fmla="val 50000"/>
              <a:gd name="adj2" fmla="val 6960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24360" y="2924280"/>
            <a:ext cx="505080" cy="144360"/>
          </a:xfrm>
          <a:prstGeom prst="leftRightArrow">
            <a:avLst>
              <a:gd name="adj1" fmla="val 50000"/>
              <a:gd name="adj2" fmla="val 6965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3CC7-A2DF-4457-8399-B03B401372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9 Exceptions to the Octet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omplete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dd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8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E765-94A9-4B19-BC52-17039E1C08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1. Incomplete Oct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complete octet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number of electrons surrounding the central atom in stable molecule is less than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BeH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Lewis structure is:       H –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–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Be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4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3A (B &amp; Al); BF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Lewis structur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is ONLY surrounded by 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6 e</a:t>
            </a:r>
            <a:r>
              <a:rPr b="0" lang="en-US" sz="3200" spc="-1" strike="noStrike" u="sng" baseline="30000">
                <a:solidFill>
                  <a:srgbClr val="cc3300"/>
                </a:solidFill>
                <a:uFillTx/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2000" y="5300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–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659640" y="601668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875640" y="58039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08328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227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012000" y="5445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2000" y="55897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08328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227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451640" y="530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596360" y="530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38920" y="5445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38920" y="55897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451640" y="5805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96360" y="5805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730920" y="65246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875640" y="6524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65964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702000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020000" y="638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8BBF-F462-4013-A56B-BD51B18531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95280" y="40464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Example 9.9 p3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Draw the Lewis structure for aluminium triiodide (AlI</a:t>
            </a:r>
            <a:r>
              <a:rPr b="0" lang="en-GB" sz="2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4000" y="20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34656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– Al 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994200" y="3424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210200" y="32115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1784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562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4656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4656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1784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562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8620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3092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7348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073480" y="299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6200" y="3213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930920" y="321300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06548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210200" y="3932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99420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99420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354560" y="3645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3545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39640" y="4653000"/>
            <a:ext cx="806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 atom is surrounded by ONLY 6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n example of incomplete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7B60-F4E6-495F-B21B-0DC8FA516C9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2. Odd-Electrons Molec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dd-electrons molecules =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adical: atom has one electron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NO &amp; N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wis structur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71640" y="38592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116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33200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87280" y="4578480"/>
            <a:ext cx="289080" cy="290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5640" y="378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41128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195640" y="4578480"/>
            <a:ext cx="14580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411280" y="4578480"/>
            <a:ext cx="14472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385920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 = N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- O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003640" y="3789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221440" y="378936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148360" y="4578480"/>
            <a:ext cx="1443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6360" y="3646440"/>
            <a:ext cx="287280" cy="28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451640" y="4506840"/>
            <a:ext cx="1429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667640" y="3789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32360" y="4579920"/>
            <a:ext cx="1411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670880" y="450684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886880" y="4005360"/>
            <a:ext cx="1411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886880" y="4219560"/>
            <a:ext cx="14112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451640" y="378936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556000" y="2205000"/>
            <a:ext cx="2160360" cy="7192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08360" y="3645000"/>
            <a:ext cx="0" cy="25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F4C5-D286-4E0F-B5D6-33A5E9EE6C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3. The Expanded Oct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 and beyond (4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6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) may form molecules in which the central atom is surrounded by more than 8 electrons (expanded oc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reason of this: is the presence of the d orbital that can be used in bo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: SF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lphur is surrounded by 12 electro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9480" y="4726080"/>
            <a:ext cx="60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"/>
          <p:cNvGrpSpPr/>
          <p:nvPr/>
        </p:nvGrpSpPr>
        <p:grpSpPr>
          <a:xfrm>
            <a:off x="1676520" y="4359240"/>
            <a:ext cx="1523880" cy="1194480"/>
            <a:chOff x="1676520" y="4359240"/>
            <a:chExt cx="1523880" cy="1194480"/>
          </a:xfrm>
        </p:grpSpPr>
        <p:sp>
          <p:nvSpPr>
            <p:cNvPr id="1335" name=""/>
            <p:cNvSpPr/>
            <p:nvPr/>
          </p:nvSpPr>
          <p:spPr>
            <a:xfrm>
              <a:off x="2092320" y="435924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53200" y="4700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F – 4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76520" y="51130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418480" y="5094000"/>
              <a:ext cx="75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3848040" y="3933720"/>
            <a:ext cx="1485360" cy="2028240"/>
            <a:chOff x="3848040" y="3933720"/>
            <a:chExt cx="1485360" cy="2028240"/>
          </a:xfrm>
        </p:grpSpPr>
        <p:grpSp>
          <p:nvGrpSpPr>
            <p:cNvPr id="1340" name=""/>
            <p:cNvGrpSpPr/>
            <p:nvPr/>
          </p:nvGrpSpPr>
          <p:grpSpPr>
            <a:xfrm>
              <a:off x="3886200" y="4289400"/>
              <a:ext cx="75960" cy="228600"/>
              <a:chOff x="3886200" y="4289400"/>
              <a:chExt cx="75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3886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886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3987360" y="4162320"/>
              <a:ext cx="228600" cy="76320"/>
              <a:chOff x="3987360" y="4162320"/>
              <a:chExt cx="228600" cy="76320"/>
            </a:xfrm>
          </p:grpSpPr>
          <p:sp>
            <p:nvSpPr>
              <p:cNvPr id="1344" name=""/>
              <p:cNvSpPr/>
              <p:nvPr/>
            </p:nvSpPr>
            <p:spPr>
              <a:xfrm rot="5400000">
                <a:off x="413964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5400000">
                <a:off x="398700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6" name=""/>
            <p:cNvSpPr/>
            <p:nvPr/>
          </p:nvSpPr>
          <p:spPr>
            <a:xfrm>
              <a:off x="4412880" y="4740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9988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92688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980960" y="52736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414320" y="39783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968360" y="41940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414320" y="550224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4572000" y="4378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4572000" y="51404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471168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4203720" y="51530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176360" y="454356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4735080" y="5140440"/>
              <a:ext cx="23004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4203720" y="4289400"/>
              <a:ext cx="75960" cy="228600"/>
              <a:chOff x="4203720" y="4289400"/>
              <a:chExt cx="75960" cy="228600"/>
            </a:xfrm>
          </p:grpSpPr>
          <p:sp>
            <p:nvSpPr>
              <p:cNvPr id="1360" name=""/>
              <p:cNvSpPr/>
              <p:nvPr/>
            </p:nvSpPr>
            <p:spPr>
              <a:xfrm>
                <a:off x="420372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0372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381560" y="4060800"/>
              <a:ext cx="75960" cy="228600"/>
              <a:chOff x="4381560" y="4060800"/>
              <a:chExt cx="75960" cy="228600"/>
            </a:xfrm>
          </p:grpSpPr>
          <p:sp>
            <p:nvSpPr>
              <p:cNvPr id="1363" name=""/>
              <p:cNvSpPr/>
              <p:nvPr/>
            </p:nvSpPr>
            <p:spPr>
              <a:xfrm>
                <a:off x="438156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8156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4482720" y="3933720"/>
              <a:ext cx="228600" cy="76320"/>
              <a:chOff x="4482720" y="3933720"/>
              <a:chExt cx="228600" cy="76320"/>
            </a:xfrm>
          </p:grpSpPr>
          <p:sp>
            <p:nvSpPr>
              <p:cNvPr id="1366" name=""/>
              <p:cNvSpPr/>
              <p:nvPr/>
            </p:nvSpPr>
            <p:spPr>
              <a:xfrm rot="5400000">
                <a:off x="4635000" y="3933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5400000">
                <a:off x="4482360" y="39337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4699080" y="4060800"/>
              <a:ext cx="75960" cy="228600"/>
              <a:chOff x="4699080" y="4060800"/>
              <a:chExt cx="75960" cy="228600"/>
            </a:xfrm>
          </p:grpSpPr>
          <p:sp>
            <p:nvSpPr>
              <p:cNvPr id="1369" name=""/>
              <p:cNvSpPr/>
              <p:nvPr/>
            </p:nvSpPr>
            <p:spPr>
              <a:xfrm>
                <a:off x="4699080" y="4060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699080" y="42134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4927680" y="4289400"/>
              <a:ext cx="75960" cy="228600"/>
              <a:chOff x="4927680" y="4289400"/>
              <a:chExt cx="75960" cy="228600"/>
            </a:xfrm>
          </p:grpSpPr>
          <p:sp>
            <p:nvSpPr>
              <p:cNvPr id="1372" name=""/>
              <p:cNvSpPr/>
              <p:nvPr/>
            </p:nvSpPr>
            <p:spPr>
              <a:xfrm>
                <a:off x="492768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92768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5028840" y="4162320"/>
              <a:ext cx="228600" cy="76320"/>
              <a:chOff x="5028840" y="4162320"/>
              <a:chExt cx="228600" cy="76320"/>
            </a:xfrm>
          </p:grpSpPr>
          <p:sp>
            <p:nvSpPr>
              <p:cNvPr id="1375" name=""/>
              <p:cNvSpPr/>
              <p:nvPr/>
            </p:nvSpPr>
            <p:spPr>
              <a:xfrm rot="5400000">
                <a:off x="5181120" y="4162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5400000">
                <a:off x="5028480" y="4162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5245200" y="4289400"/>
              <a:ext cx="75960" cy="228600"/>
              <a:chOff x="5245200" y="4289400"/>
              <a:chExt cx="75960" cy="228600"/>
            </a:xfrm>
          </p:grpSpPr>
          <p:sp>
            <p:nvSpPr>
              <p:cNvPr id="1378" name=""/>
              <p:cNvSpPr/>
              <p:nvPr/>
            </p:nvSpPr>
            <p:spPr>
              <a:xfrm>
                <a:off x="5245200" y="42894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245200" y="444204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3848040" y="5382000"/>
              <a:ext cx="393840" cy="355320"/>
              <a:chOff x="3848040" y="5382000"/>
              <a:chExt cx="393840" cy="355320"/>
            </a:xfrm>
          </p:grpSpPr>
          <p:grpSp>
            <p:nvGrpSpPr>
              <p:cNvPr id="1381" name=""/>
              <p:cNvGrpSpPr/>
              <p:nvPr/>
            </p:nvGrpSpPr>
            <p:grpSpPr>
              <a:xfrm>
                <a:off x="3848040" y="5382000"/>
                <a:ext cx="76320" cy="228600"/>
                <a:chOff x="3848040" y="5382000"/>
                <a:chExt cx="76320" cy="228600"/>
              </a:xfrm>
            </p:grpSpPr>
            <p:sp>
              <p:nvSpPr>
                <p:cNvPr id="1382" name=""/>
                <p:cNvSpPr/>
                <p:nvPr/>
              </p:nvSpPr>
              <p:spPr>
                <a:xfrm flipV="1">
                  <a:off x="384804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384804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3949560" y="5661360"/>
                <a:ext cx="228600" cy="75960"/>
                <a:chOff x="3949560" y="5661360"/>
                <a:chExt cx="228600" cy="75960"/>
              </a:xfrm>
            </p:grpSpPr>
            <p:sp>
              <p:nvSpPr>
                <p:cNvPr id="1385" name=""/>
                <p:cNvSpPr/>
                <p:nvPr/>
              </p:nvSpPr>
              <p:spPr>
                <a:xfrm flipV="1" rot="16200000">
                  <a:off x="4101840" y="56606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 rot="16200000">
                  <a:off x="3949560" y="56610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165560" y="5382000"/>
                <a:ext cx="76320" cy="228600"/>
                <a:chOff x="4165560" y="5382000"/>
                <a:chExt cx="76320" cy="228600"/>
              </a:xfrm>
            </p:grpSpPr>
            <p:sp>
              <p:nvSpPr>
                <p:cNvPr id="1388" name=""/>
                <p:cNvSpPr/>
                <p:nvPr/>
              </p:nvSpPr>
              <p:spPr>
                <a:xfrm flipV="1">
                  <a:off x="4165560" y="553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4165560" y="5381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4940280" y="5368680"/>
              <a:ext cx="393120" cy="355320"/>
              <a:chOff x="4940280" y="5368680"/>
              <a:chExt cx="393120" cy="35532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4940280" y="5368680"/>
                <a:ext cx="75960" cy="228600"/>
                <a:chOff x="4940280" y="5368680"/>
                <a:chExt cx="75960" cy="228600"/>
              </a:xfrm>
            </p:grpSpPr>
            <p:sp>
              <p:nvSpPr>
                <p:cNvPr id="1392" name=""/>
                <p:cNvSpPr/>
                <p:nvPr/>
              </p:nvSpPr>
              <p:spPr>
                <a:xfrm flipV="1">
                  <a:off x="494028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494028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5042160" y="5648040"/>
                <a:ext cx="227880" cy="75960"/>
                <a:chOff x="5042160" y="5648040"/>
                <a:chExt cx="227880" cy="75960"/>
              </a:xfrm>
            </p:grpSpPr>
            <p:sp>
              <p:nvSpPr>
                <p:cNvPr id="1395" name=""/>
                <p:cNvSpPr/>
                <p:nvPr/>
              </p:nvSpPr>
              <p:spPr>
                <a:xfrm flipV="1" rot="16200000">
                  <a:off x="5194080" y="5647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 rot="16200000">
                  <a:off x="5041800" y="564768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5257440" y="5368680"/>
                <a:ext cx="75960" cy="228600"/>
                <a:chOff x="5257440" y="5368680"/>
                <a:chExt cx="75960" cy="228600"/>
              </a:xfrm>
            </p:grpSpPr>
            <p:sp>
              <p:nvSpPr>
                <p:cNvPr id="1398" name=""/>
                <p:cNvSpPr/>
                <p:nvPr/>
              </p:nvSpPr>
              <p:spPr>
                <a:xfrm flipV="1">
                  <a:off x="5257440" y="5520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57440" y="5368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0" name=""/>
            <p:cNvGrpSpPr/>
            <p:nvPr/>
          </p:nvGrpSpPr>
          <p:grpSpPr>
            <a:xfrm>
              <a:off x="4381560" y="5585040"/>
              <a:ext cx="393120" cy="355320"/>
              <a:chOff x="4381560" y="5585040"/>
              <a:chExt cx="393120" cy="3553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4381560" y="5585040"/>
                <a:ext cx="75960" cy="228600"/>
                <a:chOff x="4381560" y="5585040"/>
                <a:chExt cx="75960" cy="228600"/>
              </a:xfrm>
            </p:grpSpPr>
            <p:sp>
              <p:nvSpPr>
                <p:cNvPr id="1402" name=""/>
                <p:cNvSpPr/>
                <p:nvPr/>
              </p:nvSpPr>
              <p:spPr>
                <a:xfrm flipV="1">
                  <a:off x="438156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438156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4483440" y="5864400"/>
                <a:ext cx="227880" cy="75960"/>
                <a:chOff x="4483440" y="5864400"/>
                <a:chExt cx="227880" cy="75960"/>
              </a:xfrm>
            </p:grpSpPr>
            <p:sp>
              <p:nvSpPr>
                <p:cNvPr id="1405" name=""/>
                <p:cNvSpPr/>
                <p:nvPr/>
              </p:nvSpPr>
              <p:spPr>
                <a:xfrm flipV="1" rot="16200000">
                  <a:off x="4635360" y="5864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 rot="16200000">
                  <a:off x="4483080" y="586404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4698720" y="5585040"/>
                <a:ext cx="75960" cy="228600"/>
                <a:chOff x="4698720" y="5585040"/>
                <a:chExt cx="75960" cy="228600"/>
              </a:xfrm>
            </p:grpSpPr>
            <p:sp>
              <p:nvSpPr>
                <p:cNvPr id="1408" name=""/>
                <p:cNvSpPr/>
                <p:nvPr/>
              </p:nvSpPr>
              <p:spPr>
                <a:xfrm flipV="1">
                  <a:off x="4698720" y="57373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698720" y="55846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5410080" y="4429080"/>
            <a:ext cx="3519720" cy="1049760"/>
            <a:chOff x="5410080" y="4429080"/>
            <a:chExt cx="3519720" cy="1049760"/>
          </a:xfrm>
        </p:grpSpPr>
        <p:sp>
          <p:nvSpPr>
            <p:cNvPr id="1411" name=""/>
            <p:cNvSpPr/>
            <p:nvPr/>
          </p:nvSpPr>
          <p:spPr>
            <a:xfrm>
              <a:off x="5410080" y="44290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 single bonds (6x2) =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5823720" y="4763880"/>
              <a:ext cx="3078000" cy="398880"/>
              <a:chOff x="5823720" y="4763880"/>
              <a:chExt cx="3078000" cy="398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823720" y="4763880"/>
                <a:ext cx="30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 lone pairs (18x2) = 3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943600" y="510372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"/>
            <p:cNvSpPr/>
            <p:nvPr/>
          </p:nvSpPr>
          <p:spPr>
            <a:xfrm>
              <a:off x="7583040" y="5079960"/>
              <a:ext cx="13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otal = 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"/>
          <p:cNvSpPr/>
          <p:nvPr/>
        </p:nvSpPr>
        <p:spPr>
          <a:xfrm>
            <a:off x="4038480" y="4429080"/>
            <a:ext cx="106704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CD9FC-BE5C-4915-B94C-893449C7EE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324000" y="812880"/>
            <a:ext cx="84960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xceptions to the Octet R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Incomplete octet: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Be, B, &amp;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2. </a:t>
            </a: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Odd-electrons: 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NO, NO</a:t>
            </a:r>
            <a:r>
              <a:rPr b="0" lang="en-GB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cc3300"/>
                </a:solidFill>
                <a:latin typeface="Comic Sans MS"/>
              </a:rPr>
              <a:t> ( or when the valance electrons is odd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3. </a:t>
            </a:r>
            <a:r>
              <a:rPr b="1" lang="en-GB" sz="3200" spc="-1" strike="noStrike">
                <a:solidFill>
                  <a:srgbClr val="2009a7"/>
                </a:solidFill>
                <a:latin typeface="Comic Sans MS"/>
              </a:rPr>
              <a:t>Expanded octet: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 elements of 3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4</a:t>
            </a:r>
            <a:r>
              <a:rPr b="0" lang="en-GB" sz="3200" spc="-1" strike="noStrike" baseline="30000">
                <a:solidFill>
                  <a:srgbClr val="2009a7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2009a7"/>
                </a:solidFill>
                <a:latin typeface="Comic Sans MS"/>
              </a:rPr>
              <a:t>, &amp; so on, may form expanded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D8EF-02C9-4532-8523-CE2802C1FB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2120" y="480960"/>
            <a:ext cx="874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Valence electr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the outer shell electrons of an  atom.  The valence electrons are the electrons that participate in chemical bo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38360" y="2522520"/>
            <a:ext cx="5514480" cy="461160"/>
            <a:chOff x="1638360" y="2522520"/>
            <a:chExt cx="5514480" cy="461160"/>
          </a:xfrm>
        </p:grpSpPr>
        <p:sp>
          <p:nvSpPr>
            <p:cNvPr id="114" name=""/>
            <p:cNvSpPr/>
            <p:nvPr/>
          </p:nvSpPr>
          <p:spPr>
            <a:xfrm>
              <a:off x="1638360" y="252396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98240" y="252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5225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62840" y="3057480"/>
            <a:ext cx="5514120" cy="475560"/>
            <a:chOff x="1662840" y="3057480"/>
            <a:chExt cx="5514120" cy="475560"/>
          </a:xfrm>
        </p:grpSpPr>
        <p:sp>
          <p:nvSpPr>
            <p:cNvPr id="118" name=""/>
            <p:cNvSpPr/>
            <p:nvPr/>
          </p:nvSpPr>
          <p:spPr>
            <a:xfrm>
              <a:off x="1662840" y="30574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2360" y="307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96800" y="3073320"/>
              <a:ext cx="6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662840" y="3605040"/>
            <a:ext cx="5514120" cy="480600"/>
            <a:chOff x="1662840" y="3605040"/>
            <a:chExt cx="5514120" cy="480600"/>
          </a:xfrm>
        </p:grpSpPr>
        <p:sp>
          <p:nvSpPr>
            <p:cNvPr id="122" name=""/>
            <p:cNvSpPr/>
            <p:nvPr/>
          </p:nvSpPr>
          <p:spPr>
            <a:xfrm>
              <a:off x="1662840" y="360504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2360" y="362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63160" y="36259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62840" y="4154400"/>
            <a:ext cx="5514120" cy="483480"/>
            <a:chOff x="1662840" y="4154400"/>
            <a:chExt cx="5514120" cy="483480"/>
          </a:xfrm>
        </p:grpSpPr>
        <p:sp>
          <p:nvSpPr>
            <p:cNvPr id="126" name=""/>
            <p:cNvSpPr/>
            <p:nvPr/>
          </p:nvSpPr>
          <p:spPr>
            <a:xfrm>
              <a:off x="1662840" y="415440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2360" y="417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79000" y="4178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62840" y="4702320"/>
            <a:ext cx="5514120" cy="486720"/>
            <a:chOff x="1662840" y="4702320"/>
            <a:chExt cx="5514120" cy="486720"/>
          </a:xfrm>
        </p:grpSpPr>
        <p:sp>
          <p:nvSpPr>
            <p:cNvPr id="130" name=""/>
            <p:cNvSpPr/>
            <p:nvPr/>
          </p:nvSpPr>
          <p:spPr>
            <a:xfrm>
              <a:off x="1662840" y="4702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22360" y="472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9000" y="472932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662840" y="5251320"/>
            <a:ext cx="5514120" cy="489960"/>
            <a:chOff x="1662840" y="5251320"/>
            <a:chExt cx="5514120" cy="489960"/>
          </a:xfrm>
        </p:grpSpPr>
        <p:sp>
          <p:nvSpPr>
            <p:cNvPr id="134" name=""/>
            <p:cNvSpPr/>
            <p:nvPr/>
          </p:nvSpPr>
          <p:spPr>
            <a:xfrm>
              <a:off x="1662840" y="52513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22360" y="5281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9000" y="52815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62840" y="5800680"/>
            <a:ext cx="5514120" cy="493200"/>
            <a:chOff x="1662840" y="5800680"/>
            <a:chExt cx="5514120" cy="493200"/>
          </a:xfrm>
        </p:grpSpPr>
        <p:sp>
          <p:nvSpPr>
            <p:cNvPr id="138" name=""/>
            <p:cNvSpPr/>
            <p:nvPr/>
          </p:nvSpPr>
          <p:spPr>
            <a:xfrm>
              <a:off x="1662840" y="58006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22360" y="583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9000" y="5834160"/>
              <a:ext cx="10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68360" y="1989000"/>
            <a:ext cx="6952680" cy="459720"/>
            <a:chOff x="1368360" y="1989000"/>
            <a:chExt cx="6952680" cy="459720"/>
          </a:xfrm>
        </p:grpSpPr>
        <p:sp>
          <p:nvSpPr>
            <p:cNvPr id="142" name=""/>
            <p:cNvSpPr/>
            <p:nvPr/>
          </p:nvSpPr>
          <p:spPr>
            <a:xfrm>
              <a:off x="1368360" y="1989000"/>
              <a:ext cx="10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02720" y="1989000"/>
              <a:ext cx="22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# of valence 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8480" y="198900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omic Sans MS"/>
                </a:rPr>
                <a:t>-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configu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53DC-2C6F-4083-A331-A6893AB66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395280" y="333360"/>
            <a:ext cx="8282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0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Draw Lewis structure for phosphorus pentaflouridde (PF</a:t>
            </a:r>
            <a:r>
              <a:rPr b="0" lang="en-GB" sz="2400" spc="-1" strike="noStrike" baseline="-25000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), in which all five F atoms are bounded to the central P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24000" y="213372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24000" y="2276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P is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iod can have expanded oc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Valance electrons = 5 + (7 x 5 )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electrons in Lewis stru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15 x 2) = 30 lone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(5 x 2) = 10 e sing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otal = 40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: P has (5 x 2) = 10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anded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237440" y="4505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244000" y="4433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37440" y="34974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156360" y="42861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237440" y="565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156360" y="493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453440" y="40734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453440" y="50817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7669080" y="472140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661080" y="4576680"/>
            <a:ext cx="576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6660720" y="4865760"/>
            <a:ext cx="576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22944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73800" y="4221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156360" y="443700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56360" y="458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37380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229440" y="4797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27640" y="4941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372360" y="49417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4560" y="51577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154560" y="5302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372360" y="55180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227640" y="55180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597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597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165800" y="5877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165800" y="60213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383600" y="6237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238880" y="6237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08720" y="342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53440" y="3429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236000" y="36450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236000" y="378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97800" y="3716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97800" y="386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17080" y="436392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461440" y="43639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677440" y="45813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67564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461440" y="4940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831708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812000" y="2997360"/>
            <a:ext cx="118764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mal Char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 &amp; F is Zero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1682-D171-4064-9FD6-6B8872B07B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0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395280" y="333360"/>
            <a:ext cx="8282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Comic Sans MS"/>
              </a:rPr>
              <a:t>Example 9.11 p39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Draw Lewis structure for sulphate ion (S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400" spc="-1" strike="noStrike" baseline="30000">
                <a:solidFill>
                  <a:srgbClr val="cc33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), in which all four O atoms are bounded to the central S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177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24000" y="17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730520" y="35686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736720" y="3641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1730520" y="2560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9440" y="35672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730520" y="47214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946160" y="3137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946160" y="4145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62160" y="39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1116000" y="386028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216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866880" y="3502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49440" y="37180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9440" y="38624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86688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160" y="40784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195640" y="5084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195640" y="4940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690560" y="48690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69056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97820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835280" y="522936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80180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946160" y="2492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728720" y="270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28720" y="2852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195640" y="27082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195640" y="2852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80980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954160" y="357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70160" y="3789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168720" y="3932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95416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09800" y="41482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35280" y="20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835280" y="50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059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2400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059280" y="4724280"/>
            <a:ext cx="2304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27960" y="357192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24720" y="35701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659640" y="2565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546880" y="357012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627960" y="47242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843600" y="31399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843600" y="4148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7059600" y="386064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6013440" y="3863520"/>
            <a:ext cx="6145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61960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5764320" y="35053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6880" y="372096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546880" y="38656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76432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619600" y="408132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7093080" y="501660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093080" y="4871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588000" y="48736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0" y="501660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626160" y="27115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626160" y="28558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7093080" y="271152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093080" y="28558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59780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7742160" y="3500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958160" y="3718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956720" y="386064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7421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59780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84692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221440" y="32878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144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48360" y="41529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8720" y="5229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ucture has an expanded octet on S, BUT it is more correct because, it has less formal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B98A-AE66-4F3A-9153-B48669E9D2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468360" y="33300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en acting as a central atom, which of the following cannot expand its oct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611280" y="1844640"/>
          <a:ext cx="2232000" cy="2587680"/>
        </p:xfrm>
        <a:graphic>
          <a:graphicData uri="http://schemas.openxmlformats.org/drawingml/2006/table">
            <a:tbl>
              <a:tblPr/>
              <a:tblGrid>
                <a:gridCol w="1081080"/>
                <a:gridCol w="11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0" name=""/>
          <p:cNvSpPr/>
          <p:nvPr/>
        </p:nvSpPr>
        <p:spPr>
          <a:xfrm>
            <a:off x="3157200" y="420624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628640"/>
            <a:ext cx="6048360" cy="3945240"/>
          </a:xfrm>
          <a:prstGeom prst="rect">
            <a:avLst/>
          </a:prstGeom>
          <a:ln w="0">
            <a:noFill/>
          </a:ln>
        </p:spPr>
      </p:pic>
      <p:sp>
        <p:nvSpPr>
          <p:cNvPr id="1542" name=""/>
          <p:cNvSpPr/>
          <p:nvPr/>
        </p:nvSpPr>
        <p:spPr>
          <a:xfrm>
            <a:off x="468360" y="568152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: Period 3 and beyond can expanded its oc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236000" y="2205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824400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604360" y="321300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956720" y="2563920"/>
            <a:ext cx="28872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596360" y="256392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D5EB-4B7F-42A8-B038-944E63807DD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395280" y="476280"/>
            <a:ext cx="77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Q: Which of the following molecules is an exception for the octet rule of Lewis 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11200" y="4011480"/>
            <a:ext cx="6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-438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95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539640" y="2203560"/>
          <a:ext cx="1944720" cy="2305080"/>
        </p:xfrm>
        <a:graphic>
          <a:graphicData uri="http://schemas.openxmlformats.org/drawingml/2006/table">
            <a:tbl>
              <a:tblPr/>
              <a:tblGrid>
                <a:gridCol w="719280"/>
                <a:gridCol w="12254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SF</a:t>
                      </a:r>
                      <a:r>
                        <a:rPr b="0" lang="en-US" sz="2800" spc="-1" strike="noStrike" baseline="-25000">
                          <a:solidFill>
                            <a:srgbClr val="cc33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DB47-5314-42F2-9AD3-DFB0AB16B0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/>
          <p:nvPr/>
        </p:nvSpPr>
        <p:spPr>
          <a:xfrm>
            <a:off x="2411280" y="249228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9AF3-12DF-4F85-9B29-0513763F33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9.1 Lewis Dot Symbols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 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  <a:cs typeface="Times New Roman"/>
              </a:rPr>
              <a:t>نظام النقط للويس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ctet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ule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forming chemical bonds, atoms usually gain, lose or share electrons until they have </a:t>
            </a:r>
            <a:r>
              <a:rPr b="0" lang="en-US" sz="29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outer shell to reach the same electronic configuration of the noble gasses (n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wis Dot Representation: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representation of an atom, the valence electrons of an atom are represented by do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main types of chemical bonds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bond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valent bon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3CDE8-E4DF-4176-9EC3-6AD53D9831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920" y="484200"/>
            <a:ext cx="85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wis Dot Symbols for the Representative Elements &amp; Nobl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92096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BCAD-A65C-4914-A393-87954CC647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4920" y="1676520"/>
          <a:ext cx="8731080" cy="3089160"/>
        </p:xfrm>
        <a:graphic>
          <a:graphicData uri="http://schemas.openxmlformats.org/drawingml/2006/table">
            <a:tbl>
              <a:tblPr/>
              <a:tblGrid>
                <a:gridCol w="2898720"/>
                <a:gridCol w="2376360"/>
                <a:gridCol w="345600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s of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B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nd Characteri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etals 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ransfer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onme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va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lectron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8360" y="549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B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Non-metals have high electronegativ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etals have low electronega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46CD-25BC-44CF-A222-6D0CA4F5E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5080" y="3938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9.2 the ionic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653000" y="2260440"/>
            <a:ext cx="2640240" cy="581400"/>
            <a:chOff x="4653000" y="2260440"/>
            <a:chExt cx="2640240" cy="581400"/>
          </a:xfrm>
        </p:grpSpPr>
        <p:grpSp>
          <p:nvGrpSpPr>
            <p:cNvPr id="154" name=""/>
            <p:cNvGrpSpPr/>
            <p:nvPr/>
          </p:nvGrpSpPr>
          <p:grpSpPr>
            <a:xfrm>
              <a:off x="4653000" y="2371320"/>
              <a:ext cx="465120" cy="459720"/>
              <a:chOff x="4653000" y="2371320"/>
              <a:chExt cx="465120" cy="459720"/>
            </a:xfrm>
          </p:grpSpPr>
          <p:sp>
            <p:nvSpPr>
              <p:cNvPr id="155" name=""/>
              <p:cNvSpPr/>
              <p:nvPr/>
            </p:nvSpPr>
            <p:spPr>
              <a:xfrm>
                <a:off x="4698000" y="237132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653000" y="2503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24320" y="2606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33240" y="2260440"/>
              <a:ext cx="12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e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85760" y="3003480"/>
            <a:ext cx="2869200" cy="705240"/>
            <a:chOff x="3785760" y="3003480"/>
            <a:chExt cx="2869200" cy="705240"/>
          </a:xfrm>
        </p:grpSpPr>
        <p:grpSp>
          <p:nvGrpSpPr>
            <p:cNvPr id="160" name=""/>
            <p:cNvGrpSpPr/>
            <p:nvPr/>
          </p:nvGrpSpPr>
          <p:grpSpPr>
            <a:xfrm>
              <a:off x="3785760" y="3121200"/>
              <a:ext cx="1348920" cy="587520"/>
              <a:chOff x="3785760" y="3121200"/>
              <a:chExt cx="1348920" cy="5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785760" y="3127320"/>
                <a:ext cx="761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-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4691160" y="3121200"/>
                <a:ext cx="443520" cy="480240"/>
                <a:chOff x="4691160" y="3121200"/>
                <a:chExt cx="443520" cy="48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750200" y="314172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4691160" y="3247920"/>
                  <a:ext cx="75960" cy="228600"/>
                  <a:chOff x="4691160" y="3247920"/>
                  <a:chExt cx="75960" cy="2286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4691160" y="324792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4691160" y="3400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5058720" y="32479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4792320" y="3121200"/>
                  <a:ext cx="227520" cy="75960"/>
                  <a:chOff x="4792320" y="3121200"/>
                  <a:chExt cx="227520" cy="75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5400000">
                    <a:off x="4943880" y="3121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5400000">
                    <a:off x="4791960" y="312120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792320" y="3514680"/>
                  <a:ext cx="227520" cy="76320"/>
                  <a:chOff x="4792320" y="3514680"/>
                  <a:chExt cx="227520" cy="763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5400000">
                    <a:off x="4943520" y="35146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5400000">
                    <a:off x="4791960" y="351504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5236920" y="3376800"/>
              <a:ext cx="685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60880" y="3003480"/>
              <a:ext cx="694080" cy="597600"/>
              <a:chOff x="5960880" y="3003480"/>
              <a:chExt cx="694080" cy="59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6328800" y="34002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960880" y="3120840"/>
                <a:ext cx="443880" cy="480240"/>
                <a:chOff x="5960880" y="3120840"/>
                <a:chExt cx="443880" cy="48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19920" y="314136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5960880" y="3247560"/>
                  <a:ext cx="75960" cy="228600"/>
                  <a:chOff x="5960880" y="3247560"/>
                  <a:chExt cx="75960" cy="2286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5960880" y="3247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5960880" y="340020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6328800" y="32475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"/>
                <p:cNvGrpSpPr/>
                <p:nvPr/>
              </p:nvGrpSpPr>
              <p:grpSpPr>
                <a:xfrm>
                  <a:off x="6062400" y="3120840"/>
                  <a:ext cx="227880" cy="75960"/>
                  <a:chOff x="6062400" y="3120840"/>
                  <a:chExt cx="227880" cy="759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5400000">
                    <a:off x="6214320" y="312084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5400000">
                    <a:off x="6062040" y="312084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062400" y="3514320"/>
                  <a:ext cx="227880" cy="76320"/>
                  <a:chOff x="6062400" y="3514320"/>
                  <a:chExt cx="227880" cy="763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5400000">
                    <a:off x="6213960" y="351432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5400000">
                    <a:off x="6062040" y="351468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"/>
              <p:cNvSpPr/>
              <p:nvPr/>
            </p:nvSpPr>
            <p:spPr>
              <a:xfrm>
                <a:off x="6359760" y="30034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691440" y="3828960"/>
            <a:ext cx="3471840" cy="610560"/>
            <a:chOff x="3691440" y="3828960"/>
            <a:chExt cx="3471840" cy="610560"/>
          </a:xfrm>
        </p:grpSpPr>
        <p:sp>
          <p:nvSpPr>
            <p:cNvPr id="191" name=""/>
            <p:cNvSpPr/>
            <p:nvPr/>
          </p:nvSpPr>
          <p:spPr>
            <a:xfrm>
              <a:off x="5236920" y="418932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691160" y="3828960"/>
              <a:ext cx="694080" cy="597600"/>
              <a:chOff x="4691160" y="3828960"/>
              <a:chExt cx="694080" cy="597600"/>
            </a:xfrm>
          </p:grpSpPr>
          <p:sp>
            <p:nvSpPr>
              <p:cNvPr id="193" name=""/>
              <p:cNvSpPr/>
              <p:nvPr/>
            </p:nvSpPr>
            <p:spPr>
              <a:xfrm>
                <a:off x="5059080" y="42256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4691160" y="3946320"/>
                <a:ext cx="443880" cy="480240"/>
                <a:chOff x="4691160" y="3946320"/>
                <a:chExt cx="443880" cy="480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50200" y="39668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691160" y="4073040"/>
                  <a:ext cx="75960" cy="228600"/>
                  <a:chOff x="4691160" y="4073040"/>
                  <a:chExt cx="75960" cy="2286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691160" y="407304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91160" y="422568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5059080" y="40730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4792680" y="3946320"/>
                  <a:ext cx="227880" cy="75960"/>
                  <a:chOff x="4792680" y="3946320"/>
                  <a:chExt cx="227880" cy="7596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5400000">
                    <a:off x="4944600" y="39463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5400000">
                    <a:off x="4792320" y="3946320"/>
                    <a:ext cx="7596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792680" y="4339800"/>
                  <a:ext cx="227880" cy="76320"/>
                  <a:chOff x="4792680" y="4339800"/>
                  <a:chExt cx="227880" cy="763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5400000">
                    <a:off x="4944240" y="43398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5400000">
                    <a:off x="4792320" y="4340160"/>
                    <a:ext cx="76320" cy="75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090040" y="38289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691440" y="3979800"/>
              <a:ext cx="8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95800" y="39654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468840" y="3841560"/>
              <a:ext cx="694440" cy="597600"/>
              <a:chOff x="6468840" y="3841560"/>
              <a:chExt cx="694440" cy="597600"/>
            </a:xfrm>
          </p:grpSpPr>
          <p:sp>
            <p:nvSpPr>
              <p:cNvPr id="210" name=""/>
              <p:cNvSpPr/>
              <p:nvPr/>
            </p:nvSpPr>
            <p:spPr>
              <a:xfrm>
                <a:off x="6837120" y="4238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468840" y="3958920"/>
                <a:ext cx="444600" cy="480240"/>
                <a:chOff x="6468840" y="3958920"/>
                <a:chExt cx="444600" cy="480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528600" y="397944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468840" y="4085640"/>
                  <a:ext cx="76320" cy="228600"/>
                  <a:chOff x="6468840" y="4085640"/>
                  <a:chExt cx="76320" cy="2286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468840" y="40856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468840" y="423828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6837120" y="4085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570000" y="3958920"/>
                  <a:ext cx="228600" cy="75960"/>
                  <a:chOff x="6570000" y="3958920"/>
                  <a:chExt cx="228600" cy="759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5400000">
                    <a:off x="6722280" y="395856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6570000" y="395892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570000" y="4352400"/>
                  <a:ext cx="228600" cy="76320"/>
                  <a:chOff x="6570000" y="4352400"/>
                  <a:chExt cx="228600" cy="76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5400000">
                    <a:off x="6722280" y="435240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5400000">
                    <a:off x="6569640" y="435240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"/>
              <p:cNvSpPr/>
              <p:nvPr/>
            </p:nvSpPr>
            <p:spPr>
              <a:xfrm>
                <a:off x="6868080" y="38415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6000" y="3541680"/>
            <a:ext cx="291132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73760" y="40813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00" y="10429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onic bon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electrostatic force that holds ions together in an ionic compound.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(metal-LOW EN- &amp; non-metal-HIGH EN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4653000"/>
            <a:ext cx="4752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3300"/>
                </a:solidFill>
                <a:uFillTx/>
                <a:latin typeface="Comic Sans MS"/>
              </a:rPr>
              <a:t>Other 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GB" sz="24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1" lang="en-GB" sz="24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C65B-6799-4158-8311-8D8249E5E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tent Placeholder 1"/>
          <p:cNvSpPr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Example 9.1 p 368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Use Lewis dot symbol to show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f Al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c3300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206064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213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 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3213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2997360"/>
            <a:ext cx="144720" cy="1425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68360" y="386244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4290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48360" y="3068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6920" y="3286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6920" y="3502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342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19640" y="3716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0053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40360" y="4005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32000" y="5370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53751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   O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5230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6920" y="5448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56642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59280" y="566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52308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1280" y="5878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5446800"/>
            <a:ext cx="14436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6720" y="5877000"/>
            <a:ext cx="144720" cy="142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601812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Ne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360" y="60897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[N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9640" y="53704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2060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D44D-60EA-4E62-8779-BB084FDFC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9T20:37:30Z</dcterms:modified>
  <cp:revision>1348</cp:revision>
  <dc:subject/>
  <dc:title>General Chemistry CHEM 110</dc:title>
</cp:coreProperties>
</file>